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hammer.wav" ContentType="audio/x-wav"/>
  <Override PartName="/ppt/media/image13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5C3D3-BB9E-4FC3-A4DC-8BFA89955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8663-3B98-447E-8888-4E21624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D988AF-F8B1-4DF1-BE30-781A43A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D36EFB-7365-4915-B0C6-B4CEFA09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44C2E0-BC0A-4B7C-9792-4E94E305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967931-3B49-4399-A8C2-68331694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DB516-EC5C-46B3-99C7-A1ED375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4A1340-8E1A-437F-90A5-8607AD3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9D36B-A9B0-4AF1-B9D2-8A26C564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E7DBF8-5BFF-4904-9340-49285C1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94DEDE-98BD-49BF-B600-B54F5104A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7F1B-C6A7-4CDB-8808-FA0696F57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682A6-FF37-41D3-81A7-8E40DF0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58821-CE64-4B5F-8A88-2EECE777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B9FA-265A-4DEE-872E-2D00D2BC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D4A92-2394-4C2B-9CB2-7D4CD87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ECE0-1E4A-4927-9AE3-2ED59BC6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68D52-5FDB-4832-AE1F-B583F553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CC91-E815-4AA4-B601-91CB862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7798-6BA5-4A48-A8DF-4CF5D9D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936A-8439-4CCB-8944-96FA5D07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C1F1-7C5E-4A52-AF12-1E0CD4E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05CC-0425-4336-BA8B-FADFEE3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B506-39B1-44B1-838E-A148E0D59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B178-BA3E-4425-B247-615C95ADB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2477E-5056-4FF3-B13A-A6F3E64D35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5E9CCC-31CF-498F-809C-B3A6139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98EF9-3EEE-49F3-B64B-DC20850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6A585-2B44-4DCC-B429-693D3171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7A75E-1202-484E-B7E0-926EF437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9E429-9C2C-4153-B8AA-B953A19C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916A9-941A-41AB-8F5C-46BA6871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FFC21-C0ED-490A-82AB-97C0AA4A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6C9703-8AF1-4A74-8D3C-A9F9E99F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BDC9D-E82A-4C0B-A45F-8A59ACA6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767C8E-DD63-4000-B7E1-D36B033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31993C-C843-403C-A548-01368CE5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D41342-AD4F-44F4-92B3-561EA8010B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E07D9-FBA5-4A97-95BB-91444C938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61D0CE-F08E-443D-8D4F-7D6B7D5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60D0C-8A50-4DD8-ADCD-2C226D5C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0C274-2FAB-401D-A601-921B0868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0CFB5-EEF7-48EE-AE5A-DF8F3056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5B71A-F589-4857-89F4-6238E8A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5837E-FF1B-409A-B8FF-52AA4351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BA31-65E1-4E09-B16A-465E2B1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9B5D6-1AFC-4F80-BB91-FFBD4FB0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6A77A-8FD4-4A22-9492-23F070AF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588F9-2767-41E0-A6A9-86DEC510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56031-F2DB-4B1E-A9A1-2AAE000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DFAD3-D0D0-4AB4-AF6A-2B432C69F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3CF7B-BCA6-4024-9B65-3F26E01D8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CEC55-68F2-4171-98C2-F311C22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98E4E-67F5-4940-8921-F0B2828E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2AC55-2C4D-4FCC-8DD5-B929B0E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D3C7C-7991-4CB1-A5A1-E09C3A84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9F21-9843-49D0-AA3A-478428BD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47DE5-11F3-445D-A85F-F9A0C33F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8869B-6F0D-49FF-AB28-D1AA1F9B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4F21-F638-4A58-A8C8-F1669C35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641CE-5AF4-455B-852A-8959D62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C999C-D5BE-4432-B5F4-B1BBFCD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23776-372C-4F07-96A4-F4CD748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8354A-30D0-4904-9F42-01AA5E3B5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446DD-A7B5-43A4-B755-5E8491F3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9E38E-91A0-4EBE-8B98-958BB14C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C0A55-4784-4AB8-BF61-8B846620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F00E-B177-40ED-A9BB-1DE6C1AF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01909-228C-491D-BE89-A97A612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A7466-749E-4154-85A9-3C665C9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13D65-3E18-4ECD-87EE-2EABAA04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4F305-CBB4-4629-BA4D-05F036B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458C7-03FE-45BA-AEB3-4EA3D1C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E42A0-9D21-4433-9D9E-0D51304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0A04D-D05A-4759-9C01-D4B6417F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AA4CD-3DA7-4AC2-A9C2-124AF546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1E878-9FB7-4621-9578-5B8D01E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7DA4-AC02-4446-9B39-65AE9A4A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D45F5-2E5C-444F-9E84-9E622E49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CA50F-479E-462A-B961-203EA0A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AF293-DB1C-4F4F-916B-9F2985A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727A0-B8C4-47CE-A371-E0C10C3F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E452E-77AE-4D0C-B7AA-2362B4FE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84261-585F-4B6A-9A35-E45A2BC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28AFE-770C-42E9-81DF-21083ED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DB39D-B423-4765-98AA-31DFB2C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8136C-BD7D-482F-A14D-C46D7229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D20C0-122C-4486-A665-8816FD50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A9C5B-E9DD-4580-ABC2-192B0747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87EA-BDD5-4913-BCB3-505B285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1D460-8091-47A0-AA16-0A5E7190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874B-E9B8-4202-98E2-A9F89C9B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CFCF-BE54-4E1A-B2C1-B98E147B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935C3-A989-4B1B-943C-5F156E71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EE806-F719-48C6-9779-2ECEFD8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FC940-8559-4E4A-9544-59CED19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6A158-E52D-436E-B394-27BD350D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10678-B091-464A-9C8E-0449B0D9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1902A-C3E2-43B4-8A6E-917AA24F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0424F-238F-42C4-9A0E-612F57B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AE2FE-56D1-4710-BBEC-78C0CE78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2C142-299A-4B9D-87DA-DF9609B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F401-6EBC-4645-A441-9A1D7C89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367C0-D96E-4B1A-AC13-87858446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E076A-34D0-460A-916C-D241E40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DB497-80A1-417D-9D52-2D47F861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547F16-4D88-43FA-B973-2C515BC4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8A4A1-2F71-45CE-BEDC-F1BEF53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2724E-BE78-4718-B429-7A87F2C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67421-3E25-4406-91BC-5A15D0C4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D4B21-EBA4-49FE-BDB6-5577E7D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155E-EB9A-4AE0-BF5E-131596E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B5A96-0909-46E0-929F-90DEEC7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8ABA6-BF78-4C73-B2DC-E0AD601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6AA39-9B4D-483A-8C1F-6C7E261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EB7AC-8987-4695-9826-683B988D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2E7D6-0D77-4BEB-83E9-5056C469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D6824-E8E6-4D9A-B315-2355F11F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95587-6411-436F-9427-D9E1A725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AA0B5-D392-48D1-B144-808FA432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A6D2B-B237-472E-9A10-72F3886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F5920-CAD3-49B5-B8D2-E41ADB54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AA8FC-B61E-414D-AC56-590B8C4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90E4E-AF82-4AF8-AA64-71BA8C4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1CF53-C356-4A98-AA65-EF4E07B7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75B92-1F69-438E-95EE-9DA9D81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CEDE2-E5C7-4D74-A29F-B45CC5C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774DD-934F-4C00-AE59-77EE622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C0898-6016-440D-9031-BF5394E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47CA1-BD44-4A54-9177-CF40BB85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9306E-DE6B-4B60-8ACA-431F71C7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F4E5E-3C9C-40AD-83E2-B2B0943C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F7C4A-B660-4B80-8506-487C2789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19B49-EB9F-49B4-8820-206D94B5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F4EB1-C454-4C61-9930-1186DABF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C7664-E113-4D7C-AD39-8B47A48B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39F61-1E11-479B-9629-7D8337B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EB93B-C1BA-4B47-A58B-8D2488B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44F51-400D-4B40-B961-D172A20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F23D5-B61C-460D-B240-DFC0DCB8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7316A-5DB8-498D-9EF9-A625757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FEB49-640F-4ADB-BD6F-0B018CD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890D6-DC80-44F9-97B8-B1328A78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1E6BE-D60A-401A-A20D-AFD9AB2E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10F3E-4512-41F4-9A7F-10CCBB2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40592-9B4B-413F-B626-12BCBD56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3EA89-BD54-44B1-879C-897AD11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16D98-1E67-4847-92C8-41E1F5B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40ACE-9E2A-400C-B70F-A274C0EB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2C60D-860E-466C-B6B7-3509B6B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DC1F4-41AC-478F-85CE-5ADAB66D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15CE4-0483-4D6E-8E44-770B8BD8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FC203-BBB8-46B8-9B93-0F010E6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E9035-ADCF-4CE4-8D88-BC41F036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7A4AF-B667-474E-B5F1-7E74F2C4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7CEBA-94E2-4FEA-9C97-81833BE1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12AD-6C7C-4305-BCF3-8465B812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DDD2A-5F4C-4104-A25F-40A78A17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1FEFB-2EC1-4BFD-AA24-FC75B39D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59655-079A-4919-9D05-5AA0010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8EF7D-B6AE-419D-8E82-034D256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4E144-92DB-4557-9831-15CF9DF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79E5F-1EED-4B67-98E5-1CBA29EF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3C60B-48A1-4873-B395-DEF7935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3920C-BCEC-4E94-B00A-1B580446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78626-3016-4872-95F4-B6F21DE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34C66-A062-45D3-8540-3F4C263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B40E1-683B-47F0-B764-FB181F735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09E29-7949-45F5-8EE1-E73573EA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99FA3-1BC8-4D66-99D0-F1D6530C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C54F4-813E-48E2-8279-5FCE3A0F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717A3-464B-4266-8643-FF39E7AF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87384-140E-4D2C-B0B9-CD3AD6B3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3690E8-3DF9-42F7-9F69-5F264DA8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3154B2-FA55-4289-B1EB-AAEF6C9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D5DA7-BFF4-4666-805E-83141D1E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2650C-7B4C-44D6-90E1-E7C82F9B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4B183-3207-41F0-81F9-E6DC0633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355F1-FCCB-4EF1-AEEA-E319D74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88446-6E2F-4089-A848-9058265F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163DA-848C-4D00-987D-FF746CB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99CCB-628D-465F-88C7-B06DCBEC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85C34-EE0C-4B7C-8776-508FD2EC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52A3C-4A3B-4BA4-97ED-9F59ED57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D4DF7-C27D-4DF6-8910-3D7770FC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3D4611-2688-44FD-ACDB-793CD01E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A9E0B-EE7D-4D15-B7F5-7829D48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56A19-275A-4EA2-ACA0-3382E9D5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2C247-AA5E-4646-93CD-56EE57C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A16590-19A7-4CFE-A76A-045BD4D8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F8E52-C48D-447A-81C4-044CCB3D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F3CDC4-ECA8-4EB9-9CE9-AFC46C04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492B6-0138-4392-A71B-FE1596A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EA5FA-4A55-45B5-B8F8-147AF02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95FF1F-807C-4F44-86E8-DB2EF7C1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BC73F-05E5-4119-BF6D-81AFEF6D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ED300B-5C18-45EB-8876-E5A9EAD2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12C82A-6098-4965-B05E-7097509D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25062-955F-4C6F-AC81-DD0A8981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96DF2-F117-4B28-9E31-BB51A85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007A6-BF98-4027-8C3F-7F7C9756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F5015-2417-4B03-A620-D7127ABF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5C84AF-DAF5-465B-9723-1DFDDDA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EA54D-16FA-4523-910D-A992E98A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A7A45-CEC1-4EE1-8BD2-4D9ED72E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BB1B59-492C-4546-B11C-A40956B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F1FDD-95AF-4F41-9E0D-C664A98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573124-5A8F-4889-8D42-FEB93C56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56F1E-BA8C-47C3-B71A-8BCD5926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3F7D7-5F45-4D43-BE80-E5E6A8AD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40F60-2487-4172-8E44-A6E0CCD2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3A7B-1D42-4377-96FF-09971E9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B08B6-1C5B-4E46-A044-51B34C9F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E7AFB-41E1-411B-9B16-BA6EA4D4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54478-16C9-45BF-B126-3FA9A05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A3AAB-EFA0-41E4-92E2-1B24CFBC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5DD227-A342-4904-A228-D615D547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F4D68-6EE3-47C8-9CAB-95A9AAE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162FB-E55F-49B8-8128-65F259CD94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E42DD-C761-4272-845F-15834408EA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39DD-A4A7-4FAC-9503-C40E163F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5964-C406-4C1D-9013-9B515DD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E374-F22F-426C-A0D3-B97BEED8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9500-E26D-4AED-96ED-27CE15A7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5472-6FEC-4BF0-B8D1-C497EA97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50AB-BD1F-4FB8-ADE6-24A37B74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AF7C-60F1-4677-8E60-F30455D7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20825-6C90-443A-ABE0-C820D1F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F340-1213-49B2-90E6-6A582AA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C1C-6C53-4EF5-8239-244530DB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335EB-AB5E-46C3-8D99-ADFF4A7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FDE3-FD82-4EC9-8A61-26BEC3BD2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45FFB-5A54-4CDA-9222-753485C681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B4A6-84BD-4DE2-B1C3-1B124074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5FA1D-EF10-43A9-8676-123EC6E8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067167-191A-4494-9BC4-536DEC7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5843C-DD78-41CB-A533-38144DC6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F1B49-86B7-476D-8F17-890C90B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4A882-A2B7-4157-AA27-8869CD20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02DA1-0E7D-4C66-927C-A495726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2A913-9C48-4F9A-A20C-0AD1C44A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D88BA-9D39-47A8-8DFB-F158891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C5E54-4ACF-4DD0-B877-BC693864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1D418-B95C-41E4-A1AD-E5825D8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2935-83FE-4FF6-812D-1760B353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4A580-0593-490C-8D45-BEB7F0C68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73BDA8-EF11-4D3D-8183-8CCC426E3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15986-AC16-46E0-B8FF-3EAB5E3C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84051-6DA8-4884-81A8-D103F69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7F808-B877-4E12-8398-EB5697FC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CE980-B92A-48BC-B545-D51B6BC2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3E219-73AD-4526-90D9-2AEC04C5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783429-8BEE-4EB5-99CE-AE3A881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16E240-3144-4E17-83C5-EA42402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E22086-CB8E-4BDE-9116-B7ECDD76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C701-720D-4160-BC7B-9C915F3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4476F-0804-4E7B-B66C-774B22DC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C3C8C-078F-4E1E-9791-CB7F0B07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31CFAC-B681-4D25-80EC-DB4254899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6EB0-6CE0-4AD6-8EC8-475C9F4A8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9670-A92B-437F-B545-B08C8C3B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2BD26-2462-48EE-A784-46E9BED5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83269-3CAF-4FEA-94D2-5D235215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9719-DA64-445A-8A2F-0AC2A596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9C035-120E-4220-BA1B-9762DBC5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B4F0E-7FCB-47E2-9BC8-6472972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B579-C628-4115-9D64-7F0C4719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5528-F9A3-41C2-AE18-17C64B55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31CE-BC05-43AC-BA55-D4397FBC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F5B78-64C4-4360-9268-31B2ACD5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8A613-C439-4FD2-B6E7-9AB6C4AD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8B68C-F935-4156-BC75-F6F888F5FA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0EE2F-D564-46E6-8912-F0D91180F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E7A9B-C2FD-4C57-BAD2-ECD01A9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955D6-0BD4-45C9-A5DF-8E54E3FF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7C97B-069E-4E79-8961-4856A7D2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89445-8AF8-4E05-A61A-B18D8801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CC94-71B9-4B18-B43E-4CDE767A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C4EF2-1633-4979-A0AF-5DAAFCAC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7E7E35-1157-48BA-9CA8-696F890E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03B7C-21B1-4507-9BA4-A3E881A9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C7CCA-2A68-499F-BC22-5860D06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C9E70-032F-4B79-A472-8DF1D75F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97F87-5399-4E7E-BDCC-6FE0B024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BF7664-BA2B-442E-B920-90C0DFD26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4F913-2D5C-4321-95C9-0082EB046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173E95-BFAB-40B1-B16D-B63F268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C420C0-58A7-4943-82FC-B8FEE09A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7FA-C2BC-45B8-B9CE-2E8FE2E8A3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64B-59D7-4E00-A31F-8DC0893DA4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207B-251E-497B-8744-10764D2561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4F79-64A7-40B2-A229-77F14E756E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A43-92E3-468D-805D-5630CD9744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A5F9-A49E-46E2-9DB9-D2405AD0A13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BB1C-3EF4-43D2-A3F7-5C6C63F222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DE99-E29F-4409-BBFC-C2B83D833C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DB3F-30EC-478C-9528-9326F96573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14D-CBE0-4AA2-9F39-0FB720F772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F0E-C44A-4537-A3C5-F6C840D24E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8ED-01C9-4990-8B8C-7ECBFE5E1C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6E5-E55A-42F9-9C23-A97774D542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FB2-7C43-458D-9D6E-B839475ECEC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2C47-306D-457F-B8F8-222AB4F342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F22-417E-4978-A21B-2B4FA0DDC67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FF60-DC1A-4A78-BDA5-FA1CA45F871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EBCF-1087-4160-96D6-4D025148C3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8CA6-2029-48E0-942D-D6A728CE97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3D6-781E-404D-B314-43AE78BC370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89B4-B59B-4E09-BBD7-8CC2F50F04E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1722-C1B5-4DA0-A42F-62E22EF9A4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9836-DB09-4BFF-925D-88D42B6CE4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34EF-17EB-475C-A471-871F4C8315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1660680" y="2757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7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加 减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100480" cy="6120"/>
            <a:chOff x="2284560" y="2448000"/>
            <a:chExt cx="510048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10048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1004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847800" y="177948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8" name="流程图: 可选过程 4097"/>
          <p:cNvSpPr/>
          <p:nvPr/>
        </p:nvSpPr>
        <p:spPr>
          <a:xfrm>
            <a:off x="396720" y="1266840"/>
            <a:ext cx="3672000" cy="792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椭圆 4098"/>
          <p:cNvSpPr/>
          <p:nvPr/>
        </p:nvSpPr>
        <p:spPr>
          <a:xfrm>
            <a:off x="541440" y="141120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4099"/>
          <p:cNvSpPr/>
          <p:nvPr/>
        </p:nvSpPr>
        <p:spPr>
          <a:xfrm>
            <a:off x="1117440" y="141120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椭圆 4100"/>
          <p:cNvSpPr/>
          <p:nvPr/>
        </p:nvSpPr>
        <p:spPr>
          <a:xfrm>
            <a:off x="1692360" y="1411200"/>
            <a:ext cx="50472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椭圆 4101"/>
          <p:cNvSpPr/>
          <p:nvPr/>
        </p:nvSpPr>
        <p:spPr>
          <a:xfrm>
            <a:off x="2268360" y="141120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椭圆 4102"/>
          <p:cNvSpPr/>
          <p:nvPr/>
        </p:nvSpPr>
        <p:spPr>
          <a:xfrm>
            <a:off x="2844720" y="141120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椭圆 4103"/>
          <p:cNvSpPr/>
          <p:nvPr/>
        </p:nvSpPr>
        <p:spPr>
          <a:xfrm>
            <a:off x="3421080" y="1411200"/>
            <a:ext cx="5032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4104"/>
          <p:cNvGrpSpPr/>
          <p:nvPr/>
        </p:nvGrpSpPr>
        <p:grpSpPr>
          <a:xfrm>
            <a:off x="395280" y="2278080"/>
            <a:ext cx="3673440" cy="792000"/>
            <a:chOff x="395280" y="2278080"/>
            <a:chExt cx="3673440" cy="792000"/>
          </a:xfrm>
        </p:grpSpPr>
        <p:sp>
          <p:nvSpPr>
            <p:cNvPr id="1016" name="流程图: 可选过程 4105"/>
            <p:cNvSpPr/>
            <p:nvPr/>
          </p:nvSpPr>
          <p:spPr>
            <a:xfrm>
              <a:off x="395280" y="2278080"/>
              <a:ext cx="3673440" cy="7920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椭圆 4106"/>
            <p:cNvSpPr/>
            <p:nvPr/>
          </p:nvSpPr>
          <p:spPr>
            <a:xfrm>
              <a:off x="540000" y="2422080"/>
              <a:ext cx="50364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4107"/>
            <p:cNvSpPr/>
            <p:nvPr/>
          </p:nvSpPr>
          <p:spPr>
            <a:xfrm>
              <a:off x="1116000" y="2422080"/>
              <a:ext cx="50364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4108"/>
            <p:cNvSpPr/>
            <p:nvPr/>
          </p:nvSpPr>
          <p:spPr>
            <a:xfrm>
              <a:off x="1692000" y="2422080"/>
              <a:ext cx="50364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4109"/>
            <p:cNvSpPr/>
            <p:nvPr/>
          </p:nvSpPr>
          <p:spPr>
            <a:xfrm>
              <a:off x="2268000" y="2422080"/>
              <a:ext cx="50364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4110"/>
            <p:cNvSpPr/>
            <p:nvPr/>
          </p:nvSpPr>
          <p:spPr>
            <a:xfrm>
              <a:off x="2844360" y="2422080"/>
              <a:ext cx="50364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4111"/>
            <p:cNvSpPr/>
            <p:nvPr/>
          </p:nvSpPr>
          <p:spPr>
            <a:xfrm>
              <a:off x="3420360" y="2422080"/>
              <a:ext cx="50328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4112"/>
          <p:cNvGrpSpPr/>
          <p:nvPr/>
        </p:nvGrpSpPr>
        <p:grpSpPr>
          <a:xfrm>
            <a:off x="396720" y="3282840"/>
            <a:ext cx="3672000" cy="793800"/>
            <a:chOff x="396720" y="3282840"/>
            <a:chExt cx="3672000" cy="793800"/>
          </a:xfrm>
        </p:grpSpPr>
        <p:sp>
          <p:nvSpPr>
            <p:cNvPr id="1024" name="流程图: 可选过程 4113"/>
            <p:cNvSpPr/>
            <p:nvPr/>
          </p:nvSpPr>
          <p:spPr>
            <a:xfrm>
              <a:off x="396720" y="3282840"/>
              <a:ext cx="3672000" cy="7938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椭圆 4114"/>
            <p:cNvSpPr/>
            <p:nvPr/>
          </p:nvSpPr>
          <p:spPr>
            <a:xfrm>
              <a:off x="54108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椭圆 4115"/>
            <p:cNvSpPr/>
            <p:nvPr/>
          </p:nvSpPr>
          <p:spPr>
            <a:xfrm>
              <a:off x="111708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椭圆 4116"/>
            <p:cNvSpPr/>
            <p:nvPr/>
          </p:nvSpPr>
          <p:spPr>
            <a:xfrm>
              <a:off x="169308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椭圆 4117"/>
            <p:cNvSpPr/>
            <p:nvPr/>
          </p:nvSpPr>
          <p:spPr>
            <a:xfrm>
              <a:off x="226872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椭圆 4118"/>
            <p:cNvSpPr/>
            <p:nvPr/>
          </p:nvSpPr>
          <p:spPr>
            <a:xfrm>
              <a:off x="284472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椭圆 4119"/>
            <p:cNvSpPr/>
            <p:nvPr/>
          </p:nvSpPr>
          <p:spPr>
            <a:xfrm>
              <a:off x="3420720" y="342720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4120"/>
          <p:cNvGrpSpPr/>
          <p:nvPr/>
        </p:nvGrpSpPr>
        <p:grpSpPr>
          <a:xfrm>
            <a:off x="395280" y="4290840"/>
            <a:ext cx="3673440" cy="792360"/>
            <a:chOff x="395280" y="4290840"/>
            <a:chExt cx="3673440" cy="792360"/>
          </a:xfrm>
        </p:grpSpPr>
        <p:sp>
          <p:nvSpPr>
            <p:cNvPr id="1032" name="流程图: 可选过程 4121"/>
            <p:cNvSpPr/>
            <p:nvPr/>
          </p:nvSpPr>
          <p:spPr>
            <a:xfrm>
              <a:off x="395280" y="4290840"/>
              <a:ext cx="3673440" cy="792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4122"/>
            <p:cNvSpPr/>
            <p:nvPr/>
          </p:nvSpPr>
          <p:spPr>
            <a:xfrm>
              <a:off x="540000" y="4434840"/>
              <a:ext cx="50364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4123"/>
            <p:cNvSpPr/>
            <p:nvPr/>
          </p:nvSpPr>
          <p:spPr>
            <a:xfrm>
              <a:off x="1116000" y="4434840"/>
              <a:ext cx="50364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4124"/>
            <p:cNvSpPr/>
            <p:nvPr/>
          </p:nvSpPr>
          <p:spPr>
            <a:xfrm>
              <a:off x="1692000" y="4434840"/>
              <a:ext cx="50364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4125"/>
            <p:cNvSpPr/>
            <p:nvPr/>
          </p:nvSpPr>
          <p:spPr>
            <a:xfrm>
              <a:off x="2268000" y="4434840"/>
              <a:ext cx="50364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4126"/>
            <p:cNvSpPr/>
            <p:nvPr/>
          </p:nvSpPr>
          <p:spPr>
            <a:xfrm>
              <a:off x="2844360" y="4434840"/>
              <a:ext cx="50364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4127"/>
            <p:cNvSpPr/>
            <p:nvPr/>
          </p:nvSpPr>
          <p:spPr>
            <a:xfrm>
              <a:off x="3420360" y="4434840"/>
              <a:ext cx="503280" cy="50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组合 4128"/>
          <p:cNvGrpSpPr/>
          <p:nvPr/>
        </p:nvGrpSpPr>
        <p:grpSpPr>
          <a:xfrm>
            <a:off x="396720" y="5299200"/>
            <a:ext cx="3672000" cy="793800"/>
            <a:chOff x="396720" y="5299200"/>
            <a:chExt cx="3672000" cy="793800"/>
          </a:xfrm>
        </p:grpSpPr>
        <p:sp>
          <p:nvSpPr>
            <p:cNvPr id="1040" name="流程图: 可选过程 4129"/>
            <p:cNvSpPr/>
            <p:nvPr/>
          </p:nvSpPr>
          <p:spPr>
            <a:xfrm>
              <a:off x="396720" y="5299200"/>
              <a:ext cx="3672000" cy="7938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椭圆 4130"/>
            <p:cNvSpPr/>
            <p:nvPr/>
          </p:nvSpPr>
          <p:spPr>
            <a:xfrm>
              <a:off x="54108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椭圆 4131"/>
            <p:cNvSpPr/>
            <p:nvPr/>
          </p:nvSpPr>
          <p:spPr>
            <a:xfrm>
              <a:off x="111708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椭圆 4132"/>
            <p:cNvSpPr/>
            <p:nvPr/>
          </p:nvSpPr>
          <p:spPr>
            <a:xfrm>
              <a:off x="169308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4133"/>
            <p:cNvSpPr/>
            <p:nvPr/>
          </p:nvSpPr>
          <p:spPr>
            <a:xfrm>
              <a:off x="226872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4134"/>
            <p:cNvSpPr/>
            <p:nvPr/>
          </p:nvSpPr>
          <p:spPr>
            <a:xfrm>
              <a:off x="284472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4135"/>
            <p:cNvSpPr/>
            <p:nvPr/>
          </p:nvSpPr>
          <p:spPr>
            <a:xfrm>
              <a:off x="3420720" y="5443560"/>
              <a:ext cx="503280" cy="50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4136"/>
          <p:cNvGrpSpPr/>
          <p:nvPr/>
        </p:nvGrpSpPr>
        <p:grpSpPr>
          <a:xfrm>
            <a:off x="538200" y="2421000"/>
            <a:ext cx="2230560" cy="503280"/>
            <a:chOff x="538200" y="2421000"/>
            <a:chExt cx="2230560" cy="503280"/>
          </a:xfrm>
        </p:grpSpPr>
        <p:sp>
          <p:nvSpPr>
            <p:cNvPr id="1048" name="椭圆 4137"/>
            <p:cNvSpPr/>
            <p:nvPr/>
          </p:nvSpPr>
          <p:spPr>
            <a:xfrm>
              <a:off x="538200" y="2421000"/>
              <a:ext cx="5032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4138"/>
            <p:cNvSpPr/>
            <p:nvPr/>
          </p:nvSpPr>
          <p:spPr>
            <a:xfrm>
              <a:off x="1113840" y="2421000"/>
              <a:ext cx="5032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4139"/>
            <p:cNvSpPr/>
            <p:nvPr/>
          </p:nvSpPr>
          <p:spPr>
            <a:xfrm>
              <a:off x="1689120" y="2421000"/>
              <a:ext cx="5032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4140"/>
            <p:cNvSpPr/>
            <p:nvPr/>
          </p:nvSpPr>
          <p:spPr>
            <a:xfrm>
              <a:off x="2265480" y="2421000"/>
              <a:ext cx="50328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组合 4141"/>
          <p:cNvGrpSpPr/>
          <p:nvPr/>
        </p:nvGrpSpPr>
        <p:grpSpPr>
          <a:xfrm>
            <a:off x="539640" y="4435560"/>
            <a:ext cx="1079640" cy="503280"/>
            <a:chOff x="539640" y="4435560"/>
            <a:chExt cx="1079640" cy="503280"/>
          </a:xfrm>
        </p:grpSpPr>
        <p:sp>
          <p:nvSpPr>
            <p:cNvPr id="1053" name="椭圆 4142"/>
            <p:cNvSpPr/>
            <p:nvPr/>
          </p:nvSpPr>
          <p:spPr>
            <a:xfrm>
              <a:off x="539640" y="4435560"/>
              <a:ext cx="50364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4143"/>
            <p:cNvSpPr/>
            <p:nvPr/>
          </p:nvSpPr>
          <p:spPr>
            <a:xfrm>
              <a:off x="1115640" y="4435560"/>
              <a:ext cx="50364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组合 4144"/>
          <p:cNvGrpSpPr/>
          <p:nvPr/>
        </p:nvGrpSpPr>
        <p:grpSpPr>
          <a:xfrm>
            <a:off x="539640" y="3427560"/>
            <a:ext cx="1653840" cy="502920"/>
            <a:chOff x="539640" y="3427560"/>
            <a:chExt cx="1653840" cy="502920"/>
          </a:xfrm>
        </p:grpSpPr>
        <p:sp>
          <p:nvSpPr>
            <p:cNvPr id="1056" name="椭圆 4145"/>
            <p:cNvSpPr/>
            <p:nvPr/>
          </p:nvSpPr>
          <p:spPr>
            <a:xfrm>
              <a:off x="539640" y="3427560"/>
              <a:ext cx="50292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4146"/>
            <p:cNvSpPr/>
            <p:nvPr/>
          </p:nvSpPr>
          <p:spPr>
            <a:xfrm>
              <a:off x="1115280" y="3427560"/>
              <a:ext cx="50292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椭圆 4147"/>
            <p:cNvSpPr/>
            <p:nvPr/>
          </p:nvSpPr>
          <p:spPr>
            <a:xfrm>
              <a:off x="1690560" y="3427560"/>
              <a:ext cx="50292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椭圆 4148"/>
          <p:cNvSpPr/>
          <p:nvPr/>
        </p:nvSpPr>
        <p:spPr>
          <a:xfrm>
            <a:off x="539640" y="5443560"/>
            <a:ext cx="50328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5273640" y="527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2"/>
          <p:cNvSpPr/>
          <p:nvPr/>
        </p:nvSpPr>
        <p:spPr>
          <a:xfrm flipH="1">
            <a:off x="5064120" y="1192320"/>
            <a:ext cx="46368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3"/>
          <p:cNvSpPr/>
          <p:nvPr/>
        </p:nvSpPr>
        <p:spPr>
          <a:xfrm>
            <a:off x="5527800" y="1192320"/>
            <a:ext cx="4950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4764960" y="1630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16"/>
          <p:cNvSpPr/>
          <p:nvPr/>
        </p:nvSpPr>
        <p:spPr>
          <a:xfrm>
            <a:off x="5851440" y="1630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组合 4154"/>
          <p:cNvGrpSpPr/>
          <p:nvPr/>
        </p:nvGrpSpPr>
        <p:grpSpPr>
          <a:xfrm>
            <a:off x="6804000" y="2494080"/>
            <a:ext cx="1579680" cy="1674720"/>
            <a:chOff x="6804000" y="2494080"/>
            <a:chExt cx="1579680" cy="1674720"/>
          </a:xfrm>
        </p:grpSpPr>
        <p:sp>
          <p:nvSpPr>
            <p:cNvPr id="1066" name="Text Box 10"/>
            <p:cNvSpPr/>
            <p:nvPr/>
          </p:nvSpPr>
          <p:spPr>
            <a:xfrm>
              <a:off x="7295400" y="2494080"/>
              <a:ext cx="47016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组合 4156"/>
            <p:cNvGrpSpPr/>
            <p:nvPr/>
          </p:nvGrpSpPr>
          <p:grpSpPr>
            <a:xfrm>
              <a:off x="7087680" y="3158280"/>
              <a:ext cx="1012320" cy="486720"/>
              <a:chOff x="7087680" y="3158280"/>
              <a:chExt cx="1012320" cy="486720"/>
            </a:xfrm>
          </p:grpSpPr>
          <p:sp>
            <p:nvSpPr>
              <p:cNvPr id="1068" name="Line 12"/>
              <p:cNvSpPr/>
              <p:nvPr/>
            </p:nvSpPr>
            <p:spPr>
              <a:xfrm flipH="1">
                <a:off x="7087680" y="3158280"/>
                <a:ext cx="46368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13"/>
              <p:cNvSpPr/>
              <p:nvPr/>
            </p:nvSpPr>
            <p:spPr>
              <a:xfrm>
                <a:off x="7551360" y="3158640"/>
                <a:ext cx="548640" cy="48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组合 4159"/>
            <p:cNvGrpSpPr/>
            <p:nvPr/>
          </p:nvGrpSpPr>
          <p:grpSpPr>
            <a:xfrm>
              <a:off x="6804000" y="3646080"/>
              <a:ext cx="1579680" cy="522720"/>
              <a:chOff x="6804000" y="3646080"/>
              <a:chExt cx="1579680" cy="522720"/>
            </a:xfrm>
          </p:grpSpPr>
          <p:sp>
            <p:nvSpPr>
              <p:cNvPr id="1071" name="Rectangle 15"/>
              <p:cNvSpPr/>
              <p:nvPr/>
            </p:nvSpPr>
            <p:spPr>
              <a:xfrm>
                <a:off x="7811640" y="3646080"/>
                <a:ext cx="572040" cy="52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15"/>
              <p:cNvSpPr/>
              <p:nvPr/>
            </p:nvSpPr>
            <p:spPr>
              <a:xfrm>
                <a:off x="6804000" y="3646080"/>
                <a:ext cx="572040" cy="52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3" name="组合 4162"/>
          <p:cNvGrpSpPr/>
          <p:nvPr/>
        </p:nvGrpSpPr>
        <p:grpSpPr>
          <a:xfrm>
            <a:off x="4788000" y="2494080"/>
            <a:ext cx="1577880" cy="1674720"/>
            <a:chOff x="4788000" y="2494080"/>
            <a:chExt cx="1577880" cy="1674720"/>
          </a:xfrm>
        </p:grpSpPr>
        <p:sp>
          <p:nvSpPr>
            <p:cNvPr id="1074" name="Text Box 10"/>
            <p:cNvSpPr/>
            <p:nvPr/>
          </p:nvSpPr>
          <p:spPr>
            <a:xfrm>
              <a:off x="5278680" y="2494080"/>
              <a:ext cx="47016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组合 4164"/>
            <p:cNvGrpSpPr/>
            <p:nvPr/>
          </p:nvGrpSpPr>
          <p:grpSpPr>
            <a:xfrm>
              <a:off x="5071320" y="3158280"/>
              <a:ext cx="1010880" cy="486720"/>
              <a:chOff x="5071320" y="3158280"/>
              <a:chExt cx="1010880" cy="486720"/>
            </a:xfrm>
          </p:grpSpPr>
          <p:sp>
            <p:nvSpPr>
              <p:cNvPr id="1076" name="Line 12"/>
              <p:cNvSpPr/>
              <p:nvPr/>
            </p:nvSpPr>
            <p:spPr>
              <a:xfrm flipH="1">
                <a:off x="5071320" y="3158280"/>
                <a:ext cx="462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13"/>
              <p:cNvSpPr/>
              <p:nvPr/>
            </p:nvSpPr>
            <p:spPr>
              <a:xfrm>
                <a:off x="5534280" y="3158640"/>
                <a:ext cx="547920" cy="48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组合 4167"/>
            <p:cNvGrpSpPr/>
            <p:nvPr/>
          </p:nvGrpSpPr>
          <p:grpSpPr>
            <a:xfrm>
              <a:off x="4788000" y="3646080"/>
              <a:ext cx="1577880" cy="522720"/>
              <a:chOff x="4788000" y="3646080"/>
              <a:chExt cx="1577880" cy="522720"/>
            </a:xfrm>
          </p:grpSpPr>
          <p:sp>
            <p:nvSpPr>
              <p:cNvPr id="1079" name="Rectangle 15"/>
              <p:cNvSpPr/>
              <p:nvPr/>
            </p:nvSpPr>
            <p:spPr>
              <a:xfrm>
                <a:off x="5794560" y="3646080"/>
                <a:ext cx="571320" cy="52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15"/>
              <p:cNvSpPr/>
              <p:nvPr/>
            </p:nvSpPr>
            <p:spPr>
              <a:xfrm>
                <a:off x="4788000" y="3646080"/>
                <a:ext cx="571320" cy="52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1" name="组合 4170"/>
          <p:cNvGrpSpPr/>
          <p:nvPr/>
        </p:nvGrpSpPr>
        <p:grpSpPr>
          <a:xfrm>
            <a:off x="5867280" y="4581360"/>
            <a:ext cx="1579680" cy="1676520"/>
            <a:chOff x="5867280" y="4581360"/>
            <a:chExt cx="1579680" cy="1676520"/>
          </a:xfrm>
        </p:grpSpPr>
        <p:sp>
          <p:nvSpPr>
            <p:cNvPr id="1082" name="Text Box 10"/>
            <p:cNvSpPr/>
            <p:nvPr/>
          </p:nvSpPr>
          <p:spPr>
            <a:xfrm>
              <a:off x="6358680" y="4581360"/>
              <a:ext cx="47016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组合 4172"/>
            <p:cNvGrpSpPr/>
            <p:nvPr/>
          </p:nvGrpSpPr>
          <p:grpSpPr>
            <a:xfrm>
              <a:off x="6150960" y="5246280"/>
              <a:ext cx="1012320" cy="487080"/>
              <a:chOff x="6150960" y="5246280"/>
              <a:chExt cx="1012320" cy="487080"/>
            </a:xfrm>
          </p:grpSpPr>
          <p:sp>
            <p:nvSpPr>
              <p:cNvPr id="1084" name="Line 12"/>
              <p:cNvSpPr/>
              <p:nvPr/>
            </p:nvSpPr>
            <p:spPr>
              <a:xfrm flipH="1">
                <a:off x="6150960" y="5246280"/>
                <a:ext cx="463680" cy="4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3"/>
              <p:cNvSpPr/>
              <p:nvPr/>
            </p:nvSpPr>
            <p:spPr>
              <a:xfrm>
                <a:off x="6614640" y="5246640"/>
                <a:ext cx="54864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4175"/>
            <p:cNvGrpSpPr/>
            <p:nvPr/>
          </p:nvGrpSpPr>
          <p:grpSpPr>
            <a:xfrm>
              <a:off x="5867280" y="5734440"/>
              <a:ext cx="1579680" cy="523440"/>
              <a:chOff x="5867280" y="5734440"/>
              <a:chExt cx="1579680" cy="523440"/>
            </a:xfrm>
          </p:grpSpPr>
          <p:sp>
            <p:nvSpPr>
              <p:cNvPr id="1087" name="Rectangle 15"/>
              <p:cNvSpPr/>
              <p:nvPr/>
            </p:nvSpPr>
            <p:spPr>
              <a:xfrm>
                <a:off x="6874920" y="5734440"/>
                <a:ext cx="572040" cy="523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15"/>
              <p:cNvSpPr/>
              <p:nvPr/>
            </p:nvSpPr>
            <p:spPr>
              <a:xfrm>
                <a:off x="5867280" y="5734440"/>
                <a:ext cx="572040" cy="523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组合 4178"/>
          <p:cNvGrpSpPr/>
          <p:nvPr/>
        </p:nvGrpSpPr>
        <p:grpSpPr>
          <a:xfrm>
            <a:off x="6730920" y="549360"/>
            <a:ext cx="1579680" cy="1675800"/>
            <a:chOff x="6730920" y="549360"/>
            <a:chExt cx="1579680" cy="1675800"/>
          </a:xfrm>
        </p:grpSpPr>
        <p:sp>
          <p:nvSpPr>
            <p:cNvPr id="1090" name="Text Box 10"/>
            <p:cNvSpPr/>
            <p:nvPr/>
          </p:nvSpPr>
          <p:spPr>
            <a:xfrm>
              <a:off x="7222320" y="549360"/>
              <a:ext cx="47016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组合 4180"/>
            <p:cNvGrpSpPr/>
            <p:nvPr/>
          </p:nvGrpSpPr>
          <p:grpSpPr>
            <a:xfrm>
              <a:off x="7014600" y="1214280"/>
              <a:ext cx="1012320" cy="487080"/>
              <a:chOff x="7014600" y="1214280"/>
              <a:chExt cx="1012320" cy="487080"/>
            </a:xfrm>
          </p:grpSpPr>
          <p:sp>
            <p:nvSpPr>
              <p:cNvPr id="1092" name="Line 12"/>
              <p:cNvSpPr/>
              <p:nvPr/>
            </p:nvSpPr>
            <p:spPr>
              <a:xfrm flipH="1">
                <a:off x="7014600" y="1214280"/>
                <a:ext cx="463680" cy="4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13"/>
              <p:cNvSpPr/>
              <p:nvPr/>
            </p:nvSpPr>
            <p:spPr>
              <a:xfrm>
                <a:off x="7478280" y="1214640"/>
                <a:ext cx="548640" cy="48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组合 4183"/>
            <p:cNvGrpSpPr/>
            <p:nvPr/>
          </p:nvGrpSpPr>
          <p:grpSpPr>
            <a:xfrm>
              <a:off x="6730920" y="1702080"/>
              <a:ext cx="1579680" cy="523080"/>
              <a:chOff x="6730920" y="1702080"/>
              <a:chExt cx="1579680" cy="523080"/>
            </a:xfrm>
          </p:grpSpPr>
          <p:sp>
            <p:nvSpPr>
              <p:cNvPr id="1095" name="Rectangle 15"/>
              <p:cNvSpPr/>
              <p:nvPr/>
            </p:nvSpPr>
            <p:spPr>
              <a:xfrm>
                <a:off x="7738560" y="1702080"/>
                <a:ext cx="572040" cy="52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15"/>
              <p:cNvSpPr/>
              <p:nvPr/>
            </p:nvSpPr>
            <p:spPr>
              <a:xfrm>
                <a:off x="6730920" y="1702080"/>
                <a:ext cx="572040" cy="52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7" name="文本框 4186"/>
          <p:cNvSpPr/>
          <p:nvPr/>
        </p:nvSpPr>
        <p:spPr>
          <a:xfrm>
            <a:off x="678816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4187"/>
          <p:cNvSpPr/>
          <p:nvPr/>
        </p:nvSpPr>
        <p:spPr>
          <a:xfrm>
            <a:off x="7795440" y="1628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4188"/>
          <p:cNvSpPr/>
          <p:nvPr/>
        </p:nvSpPr>
        <p:spPr>
          <a:xfrm>
            <a:off x="484416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4189"/>
          <p:cNvSpPr/>
          <p:nvPr/>
        </p:nvSpPr>
        <p:spPr>
          <a:xfrm>
            <a:off x="585144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4190"/>
          <p:cNvSpPr/>
          <p:nvPr/>
        </p:nvSpPr>
        <p:spPr>
          <a:xfrm>
            <a:off x="686052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4191"/>
          <p:cNvSpPr/>
          <p:nvPr/>
        </p:nvSpPr>
        <p:spPr>
          <a:xfrm>
            <a:off x="7868520" y="3573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文本框 4192"/>
          <p:cNvSpPr/>
          <p:nvPr/>
        </p:nvSpPr>
        <p:spPr>
          <a:xfrm>
            <a:off x="5923800" y="566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4193"/>
          <p:cNvSpPr/>
          <p:nvPr/>
        </p:nvSpPr>
        <p:spPr>
          <a:xfrm>
            <a:off x="6932520" y="5661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4194"/>
          <p:cNvSpPr/>
          <p:nvPr/>
        </p:nvSpPr>
        <p:spPr>
          <a:xfrm>
            <a:off x="1432440" y="190440"/>
            <a:ext cx="13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涂一涂，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"/>
                            </p:stCondLst>
                            <p:childTnLst>
                              <p:par>
                                <p:cTn id="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356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040c0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4040c0"/>
                </a:solidFill>
                <a:latin typeface="黑体"/>
                <a:ea typeface="黑体"/>
              </a:rPr>
              <a:t>个   分成两堆，有几种分法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组合 5162"/>
          <p:cNvGrpSpPr/>
          <p:nvPr/>
        </p:nvGrpSpPr>
        <p:grpSpPr>
          <a:xfrm>
            <a:off x="826920" y="1560600"/>
            <a:ext cx="1511640" cy="2665440"/>
            <a:chOff x="826920" y="1560600"/>
            <a:chExt cx="1511640" cy="2665440"/>
          </a:xfrm>
        </p:grpSpPr>
        <p:sp>
          <p:nvSpPr>
            <p:cNvPr id="1108" name="立方体 5123"/>
            <p:cNvSpPr/>
            <p:nvPr/>
          </p:nvSpPr>
          <p:spPr>
            <a:xfrm>
              <a:off x="826920" y="3665520"/>
              <a:ext cx="560520" cy="5605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立方体 5124"/>
            <p:cNvSpPr/>
            <p:nvPr/>
          </p:nvSpPr>
          <p:spPr>
            <a:xfrm>
              <a:off x="826920" y="3245040"/>
              <a:ext cx="560520" cy="5605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立方体 5125"/>
            <p:cNvSpPr/>
            <p:nvPr/>
          </p:nvSpPr>
          <p:spPr>
            <a:xfrm>
              <a:off x="826920" y="2824200"/>
              <a:ext cx="560520" cy="5605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立方体 5126"/>
            <p:cNvSpPr/>
            <p:nvPr/>
          </p:nvSpPr>
          <p:spPr>
            <a:xfrm>
              <a:off x="826920" y="2401920"/>
              <a:ext cx="560520" cy="5605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立方体 5127"/>
            <p:cNvSpPr/>
            <p:nvPr/>
          </p:nvSpPr>
          <p:spPr>
            <a:xfrm>
              <a:off x="826920" y="1984680"/>
              <a:ext cx="560520" cy="5601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立方体 5128"/>
            <p:cNvSpPr/>
            <p:nvPr/>
          </p:nvSpPr>
          <p:spPr>
            <a:xfrm>
              <a:off x="826920" y="1560600"/>
              <a:ext cx="560520" cy="5587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立方体 5129"/>
            <p:cNvSpPr/>
            <p:nvPr/>
          </p:nvSpPr>
          <p:spPr>
            <a:xfrm>
              <a:off x="1835280" y="3648240"/>
              <a:ext cx="503280" cy="50472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组合 5130"/>
          <p:cNvGrpSpPr/>
          <p:nvPr/>
        </p:nvGrpSpPr>
        <p:grpSpPr>
          <a:xfrm>
            <a:off x="6804000" y="2401920"/>
            <a:ext cx="1565280" cy="1820880"/>
            <a:chOff x="6804000" y="2401920"/>
            <a:chExt cx="1565280" cy="1820880"/>
          </a:xfrm>
        </p:grpSpPr>
        <p:sp>
          <p:nvSpPr>
            <p:cNvPr id="1116" name="立方体 5131"/>
            <p:cNvSpPr/>
            <p:nvPr/>
          </p:nvSpPr>
          <p:spPr>
            <a:xfrm>
              <a:off x="7811280" y="364788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立方体 5132"/>
            <p:cNvSpPr/>
            <p:nvPr/>
          </p:nvSpPr>
          <p:spPr>
            <a:xfrm>
              <a:off x="6804000" y="366516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立方体 5133"/>
            <p:cNvSpPr/>
            <p:nvPr/>
          </p:nvSpPr>
          <p:spPr>
            <a:xfrm>
              <a:off x="6804000" y="324396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立方体 5134"/>
            <p:cNvSpPr/>
            <p:nvPr/>
          </p:nvSpPr>
          <p:spPr>
            <a:xfrm>
              <a:off x="6804000" y="282348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立方体 5135"/>
            <p:cNvSpPr/>
            <p:nvPr/>
          </p:nvSpPr>
          <p:spPr>
            <a:xfrm>
              <a:off x="6804000" y="240192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立方体 5136"/>
            <p:cNvSpPr/>
            <p:nvPr/>
          </p:nvSpPr>
          <p:spPr>
            <a:xfrm>
              <a:off x="7812000" y="321588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立方体 5137"/>
            <p:cNvSpPr/>
            <p:nvPr/>
          </p:nvSpPr>
          <p:spPr>
            <a:xfrm>
              <a:off x="7812000" y="2792520"/>
              <a:ext cx="55728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组合 5138"/>
          <p:cNvGrpSpPr/>
          <p:nvPr/>
        </p:nvGrpSpPr>
        <p:grpSpPr>
          <a:xfrm>
            <a:off x="3706920" y="1984320"/>
            <a:ext cx="1566720" cy="2241360"/>
            <a:chOff x="3706920" y="1984320"/>
            <a:chExt cx="1566720" cy="2241360"/>
          </a:xfrm>
        </p:grpSpPr>
        <p:sp>
          <p:nvSpPr>
            <p:cNvPr id="1124" name="立方体 5139"/>
            <p:cNvSpPr/>
            <p:nvPr/>
          </p:nvSpPr>
          <p:spPr>
            <a:xfrm>
              <a:off x="3706920" y="3665880"/>
              <a:ext cx="560880" cy="5598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立方体 5140"/>
            <p:cNvSpPr/>
            <p:nvPr/>
          </p:nvSpPr>
          <p:spPr>
            <a:xfrm>
              <a:off x="3706920" y="3244680"/>
              <a:ext cx="560880" cy="5601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立方体 5141"/>
            <p:cNvSpPr/>
            <p:nvPr/>
          </p:nvSpPr>
          <p:spPr>
            <a:xfrm>
              <a:off x="3706920" y="2824560"/>
              <a:ext cx="560880" cy="5598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立方体 5142"/>
            <p:cNvSpPr/>
            <p:nvPr/>
          </p:nvSpPr>
          <p:spPr>
            <a:xfrm>
              <a:off x="3706920" y="2402640"/>
              <a:ext cx="560880" cy="5594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立方体 5143"/>
            <p:cNvSpPr/>
            <p:nvPr/>
          </p:nvSpPr>
          <p:spPr>
            <a:xfrm>
              <a:off x="3706920" y="1984320"/>
              <a:ext cx="560880" cy="5598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立方体 5144"/>
            <p:cNvSpPr/>
            <p:nvPr/>
          </p:nvSpPr>
          <p:spPr>
            <a:xfrm>
              <a:off x="4715280" y="3648960"/>
              <a:ext cx="557640" cy="55764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立方体 5145"/>
            <p:cNvSpPr/>
            <p:nvPr/>
          </p:nvSpPr>
          <p:spPr>
            <a:xfrm>
              <a:off x="4716000" y="3216960"/>
              <a:ext cx="557640" cy="5544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0"/>
          <p:cNvSpPr/>
          <p:nvPr/>
        </p:nvSpPr>
        <p:spPr>
          <a:xfrm>
            <a:off x="4267080" y="4363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12"/>
          <p:cNvSpPr/>
          <p:nvPr/>
        </p:nvSpPr>
        <p:spPr>
          <a:xfrm flipH="1">
            <a:off x="4057560" y="5029200"/>
            <a:ext cx="463680" cy="48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4521240" y="5029200"/>
            <a:ext cx="49536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4"/>
          <p:cNvSpPr/>
          <p:nvPr/>
        </p:nvSpPr>
        <p:spPr>
          <a:xfrm>
            <a:off x="3758400" y="546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6"/>
          <p:cNvSpPr/>
          <p:nvPr/>
        </p:nvSpPr>
        <p:spPr>
          <a:xfrm>
            <a:off x="4845240" y="5468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0"/>
          <p:cNvSpPr/>
          <p:nvPr/>
        </p:nvSpPr>
        <p:spPr>
          <a:xfrm>
            <a:off x="7363440" y="4363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2"/>
          <p:cNvSpPr/>
          <p:nvPr/>
        </p:nvSpPr>
        <p:spPr>
          <a:xfrm flipH="1">
            <a:off x="7154640" y="5029200"/>
            <a:ext cx="463320" cy="48564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3"/>
          <p:cNvSpPr/>
          <p:nvPr/>
        </p:nvSpPr>
        <p:spPr>
          <a:xfrm>
            <a:off x="7618320" y="5029200"/>
            <a:ext cx="493920" cy="45720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4"/>
          <p:cNvSpPr/>
          <p:nvPr/>
        </p:nvSpPr>
        <p:spPr>
          <a:xfrm>
            <a:off x="6854760" y="5467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7941600" y="5468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1384920" y="4341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2"/>
          <p:cNvSpPr/>
          <p:nvPr/>
        </p:nvSpPr>
        <p:spPr>
          <a:xfrm flipH="1">
            <a:off x="1176120" y="5005440"/>
            <a:ext cx="463320" cy="48564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3"/>
          <p:cNvSpPr/>
          <p:nvPr/>
        </p:nvSpPr>
        <p:spPr>
          <a:xfrm>
            <a:off x="1639800" y="5005440"/>
            <a:ext cx="493920" cy="457200"/>
          </a:xfrm>
          <a:prstGeom prst="line">
            <a:avLst/>
          </a:prstGeom>
          <a:ln w="381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14"/>
          <p:cNvSpPr/>
          <p:nvPr/>
        </p:nvSpPr>
        <p:spPr>
          <a:xfrm>
            <a:off x="876240" y="5443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16"/>
          <p:cNvSpPr/>
          <p:nvPr/>
        </p:nvSpPr>
        <p:spPr>
          <a:xfrm>
            <a:off x="1963080" y="5445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立方体 5161"/>
          <p:cNvSpPr/>
          <p:nvPr/>
        </p:nvSpPr>
        <p:spPr>
          <a:xfrm>
            <a:off x="1258920" y="835200"/>
            <a:ext cx="503280" cy="50472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组合 2"/>
          <p:cNvGrpSpPr/>
          <p:nvPr/>
        </p:nvGrpSpPr>
        <p:grpSpPr>
          <a:xfrm>
            <a:off x="-41400" y="141120"/>
            <a:ext cx="3245040" cy="527040"/>
            <a:chOff x="-41400" y="141120"/>
            <a:chExt cx="3245040" cy="527040"/>
          </a:xfrm>
        </p:grpSpPr>
        <p:pic>
          <p:nvPicPr>
            <p:cNvPr id="114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9080" y="14112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9" name="组合 4"/>
            <p:cNvGrpSpPr/>
            <p:nvPr/>
          </p:nvGrpSpPr>
          <p:grpSpPr>
            <a:xfrm>
              <a:off x="-41400" y="236160"/>
              <a:ext cx="430200" cy="274680"/>
              <a:chOff x="-41400" y="236160"/>
              <a:chExt cx="430200" cy="274680"/>
            </a:xfrm>
          </p:grpSpPr>
          <p:sp>
            <p:nvSpPr>
              <p:cNvPr id="1150" name="椭圆 11"/>
              <p:cNvSpPr/>
              <p:nvPr/>
            </p:nvSpPr>
            <p:spPr>
              <a:xfrm rot="16200000">
                <a:off x="201960" y="4010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760" y="3643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椭圆 29"/>
              <p:cNvSpPr/>
              <p:nvPr/>
            </p:nvSpPr>
            <p:spPr>
              <a:xfrm rot="16200000">
                <a:off x="201960" y="2739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760" y="2509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80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520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642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361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8" name="文本框 6145"/>
          <p:cNvSpPr/>
          <p:nvPr/>
        </p:nvSpPr>
        <p:spPr>
          <a:xfrm>
            <a:off x="1982880" y="1557360"/>
            <a:ext cx="223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c0"/>
                </a:solidFill>
                <a:latin typeface="Arial"/>
                <a:ea typeface="黑体"/>
              </a:rPr>
              <a:t>1.</a:t>
            </a:r>
            <a:r>
              <a:rPr b="1" lang="zh-CN" sz="4000" spc="-1" strike="noStrike">
                <a:solidFill>
                  <a:srgbClr val="4040c0"/>
                </a:solidFill>
                <a:latin typeface="Arial"/>
                <a:ea typeface="黑体"/>
              </a:rPr>
              <a:t>想一想，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6146"/>
          <p:cNvGrpSpPr/>
          <p:nvPr/>
        </p:nvGrpSpPr>
        <p:grpSpPr>
          <a:xfrm>
            <a:off x="583560" y="2565360"/>
            <a:ext cx="1492560" cy="1765800"/>
            <a:chOff x="583560" y="2565360"/>
            <a:chExt cx="1492560" cy="1765800"/>
          </a:xfrm>
        </p:grpSpPr>
        <p:sp>
          <p:nvSpPr>
            <p:cNvPr id="1160" name="Text Box 9"/>
            <p:cNvSpPr/>
            <p:nvPr/>
          </p:nvSpPr>
          <p:spPr>
            <a:xfrm>
              <a:off x="1103760" y="2565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10"/>
            <p:cNvSpPr/>
            <p:nvPr/>
          </p:nvSpPr>
          <p:spPr>
            <a:xfrm flipH="1">
              <a:off x="869040" y="3230280"/>
              <a:ext cx="463320" cy="4856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11"/>
            <p:cNvSpPr/>
            <p:nvPr/>
          </p:nvSpPr>
          <p:spPr>
            <a:xfrm>
              <a:off x="1332720" y="3230280"/>
              <a:ext cx="493560" cy="45720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12"/>
            <p:cNvSpPr/>
            <p:nvPr/>
          </p:nvSpPr>
          <p:spPr>
            <a:xfrm>
              <a:off x="583560" y="35668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矩形 6151"/>
            <p:cNvSpPr/>
            <p:nvPr/>
          </p:nvSpPr>
          <p:spPr>
            <a:xfrm>
              <a:off x="1572480" y="3740040"/>
              <a:ext cx="503640" cy="50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组合 6152"/>
          <p:cNvGrpSpPr/>
          <p:nvPr/>
        </p:nvGrpSpPr>
        <p:grpSpPr>
          <a:xfrm>
            <a:off x="2660760" y="2660760"/>
            <a:ext cx="1616400" cy="1670760"/>
            <a:chOff x="2660760" y="2660760"/>
            <a:chExt cx="1616400" cy="1670760"/>
          </a:xfrm>
        </p:grpSpPr>
        <p:sp>
          <p:nvSpPr>
            <p:cNvPr id="1166" name="Line 10"/>
            <p:cNvSpPr/>
            <p:nvPr/>
          </p:nvSpPr>
          <p:spPr>
            <a:xfrm flipH="1">
              <a:off x="2947320" y="3230640"/>
              <a:ext cx="463320" cy="48528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11"/>
            <p:cNvSpPr/>
            <p:nvPr/>
          </p:nvSpPr>
          <p:spPr>
            <a:xfrm>
              <a:off x="3411360" y="3230640"/>
              <a:ext cx="493920" cy="4568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2660760" y="3567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13"/>
            <p:cNvSpPr/>
            <p:nvPr/>
          </p:nvSpPr>
          <p:spPr>
            <a:xfrm>
              <a:off x="3776400" y="3524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矩形 6157"/>
            <p:cNvSpPr/>
            <p:nvPr/>
          </p:nvSpPr>
          <p:spPr>
            <a:xfrm>
              <a:off x="3147120" y="2660760"/>
              <a:ext cx="504000" cy="50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组合 6158"/>
          <p:cNvGrpSpPr/>
          <p:nvPr/>
        </p:nvGrpSpPr>
        <p:grpSpPr>
          <a:xfrm>
            <a:off x="4843080" y="2565360"/>
            <a:ext cx="1492560" cy="1765800"/>
            <a:chOff x="4843080" y="2565360"/>
            <a:chExt cx="1492560" cy="1765800"/>
          </a:xfrm>
        </p:grpSpPr>
        <p:sp>
          <p:nvSpPr>
            <p:cNvPr id="1172" name="Text Box 9"/>
            <p:cNvSpPr/>
            <p:nvPr/>
          </p:nvSpPr>
          <p:spPr>
            <a:xfrm>
              <a:off x="5363280" y="2565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10"/>
            <p:cNvSpPr/>
            <p:nvPr/>
          </p:nvSpPr>
          <p:spPr>
            <a:xfrm flipH="1">
              <a:off x="5128560" y="3230280"/>
              <a:ext cx="462960" cy="4856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11"/>
            <p:cNvSpPr/>
            <p:nvPr/>
          </p:nvSpPr>
          <p:spPr>
            <a:xfrm>
              <a:off x="5591880" y="3230280"/>
              <a:ext cx="493560" cy="45720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Text Box 12"/>
            <p:cNvSpPr/>
            <p:nvPr/>
          </p:nvSpPr>
          <p:spPr>
            <a:xfrm>
              <a:off x="4843080" y="35668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矩形 6163"/>
            <p:cNvSpPr/>
            <p:nvPr/>
          </p:nvSpPr>
          <p:spPr>
            <a:xfrm>
              <a:off x="5832000" y="3740040"/>
              <a:ext cx="503640" cy="50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6164"/>
          <p:cNvGrpSpPr/>
          <p:nvPr/>
        </p:nvGrpSpPr>
        <p:grpSpPr>
          <a:xfrm>
            <a:off x="6919920" y="2660760"/>
            <a:ext cx="1616400" cy="1670760"/>
            <a:chOff x="6919920" y="2660760"/>
            <a:chExt cx="1616400" cy="1670760"/>
          </a:xfrm>
        </p:grpSpPr>
        <p:sp>
          <p:nvSpPr>
            <p:cNvPr id="1178" name="Line 10"/>
            <p:cNvSpPr/>
            <p:nvPr/>
          </p:nvSpPr>
          <p:spPr>
            <a:xfrm flipH="1">
              <a:off x="7206480" y="3230640"/>
              <a:ext cx="463320" cy="48528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11"/>
            <p:cNvSpPr/>
            <p:nvPr/>
          </p:nvSpPr>
          <p:spPr>
            <a:xfrm>
              <a:off x="7670520" y="3230640"/>
              <a:ext cx="493920" cy="456840"/>
            </a:xfrm>
            <a:prstGeom prst="line">
              <a:avLst/>
            </a:prstGeom>
            <a:ln w="381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6919920" y="3567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8035560" y="3524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6169"/>
            <p:cNvSpPr/>
            <p:nvPr/>
          </p:nvSpPr>
          <p:spPr>
            <a:xfrm>
              <a:off x="7406280" y="2660760"/>
              <a:ext cx="504000" cy="504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文本框 6170"/>
          <p:cNvSpPr/>
          <p:nvPr/>
        </p:nvSpPr>
        <p:spPr>
          <a:xfrm>
            <a:off x="5848920" y="3573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6171"/>
          <p:cNvSpPr/>
          <p:nvPr/>
        </p:nvSpPr>
        <p:spPr>
          <a:xfrm>
            <a:off x="7428600" y="256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6172"/>
          <p:cNvSpPr/>
          <p:nvPr/>
        </p:nvSpPr>
        <p:spPr>
          <a:xfrm>
            <a:off x="3112920" y="2492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6173"/>
          <p:cNvSpPr/>
          <p:nvPr/>
        </p:nvSpPr>
        <p:spPr>
          <a:xfrm>
            <a:off x="1528560" y="3573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4"/>
          <p:cNvSpPr/>
          <p:nvPr/>
        </p:nvSpPr>
        <p:spPr>
          <a:xfrm>
            <a:off x="609480" y="117360"/>
            <a:ext cx="197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文本框 7169"/>
          <p:cNvSpPr/>
          <p:nvPr/>
        </p:nvSpPr>
        <p:spPr>
          <a:xfrm>
            <a:off x="2781720" y="762120"/>
            <a:ext cx="366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8ec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d9d8ec"/>
                </a:solidFill>
                <a:latin typeface="黑体"/>
                <a:ea typeface="黑体"/>
              </a:rPr>
              <a:t>再画几个就是</a:t>
            </a:r>
            <a:r>
              <a:rPr b="1" lang="zh-CN" sz="4400" spc="-1" strike="noStrike">
                <a:solidFill>
                  <a:srgbClr val="d9d8ec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d9d8ec"/>
                </a:solidFill>
                <a:latin typeface="黑体"/>
                <a:ea typeface="黑体"/>
              </a:rPr>
              <a:t>个？请你接着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圆角矩形 7170"/>
          <p:cNvSpPr/>
          <p:nvPr/>
        </p:nvSpPr>
        <p:spPr>
          <a:xfrm>
            <a:off x="826920" y="1914480"/>
            <a:ext cx="2808360" cy="17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圆角矩形 7171"/>
          <p:cNvSpPr/>
          <p:nvPr/>
        </p:nvSpPr>
        <p:spPr>
          <a:xfrm>
            <a:off x="5148360" y="1914480"/>
            <a:ext cx="2808360" cy="1728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圆角矩形 7172"/>
          <p:cNvSpPr/>
          <p:nvPr/>
        </p:nvSpPr>
        <p:spPr>
          <a:xfrm>
            <a:off x="826920" y="4433760"/>
            <a:ext cx="2808360" cy="172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圆角矩形 7173"/>
          <p:cNvSpPr/>
          <p:nvPr/>
        </p:nvSpPr>
        <p:spPr>
          <a:xfrm>
            <a:off x="5148360" y="4433760"/>
            <a:ext cx="2808360" cy="172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2320">
            <a:solidFill>
              <a:srgbClr val="00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椭圆 7174"/>
          <p:cNvSpPr/>
          <p:nvPr/>
        </p:nvSpPr>
        <p:spPr>
          <a:xfrm>
            <a:off x="1260360" y="21304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椭圆 7175"/>
          <p:cNvSpPr/>
          <p:nvPr/>
        </p:nvSpPr>
        <p:spPr>
          <a:xfrm>
            <a:off x="1908000" y="21304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椭圆 7176"/>
          <p:cNvSpPr/>
          <p:nvPr/>
        </p:nvSpPr>
        <p:spPr>
          <a:xfrm>
            <a:off x="1116000" y="27781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椭圆 7177"/>
          <p:cNvSpPr/>
          <p:nvPr/>
        </p:nvSpPr>
        <p:spPr>
          <a:xfrm>
            <a:off x="1692360" y="29941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椭圆 7178"/>
          <p:cNvSpPr/>
          <p:nvPr/>
        </p:nvSpPr>
        <p:spPr>
          <a:xfrm>
            <a:off x="2340000" y="29224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椭圆 7179"/>
          <p:cNvSpPr/>
          <p:nvPr/>
        </p:nvSpPr>
        <p:spPr>
          <a:xfrm>
            <a:off x="6516720" y="20588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椭圆 7180"/>
          <p:cNvSpPr/>
          <p:nvPr/>
        </p:nvSpPr>
        <p:spPr>
          <a:xfrm>
            <a:off x="7236000" y="22035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椭圆 7181"/>
          <p:cNvSpPr/>
          <p:nvPr/>
        </p:nvSpPr>
        <p:spPr>
          <a:xfrm>
            <a:off x="5580000" y="21304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椭圆 7182"/>
          <p:cNvSpPr/>
          <p:nvPr/>
        </p:nvSpPr>
        <p:spPr>
          <a:xfrm>
            <a:off x="5724360" y="299412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椭圆 7183"/>
          <p:cNvSpPr/>
          <p:nvPr/>
        </p:nvSpPr>
        <p:spPr>
          <a:xfrm>
            <a:off x="3060720" y="54435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椭圆 7184"/>
          <p:cNvSpPr/>
          <p:nvPr/>
        </p:nvSpPr>
        <p:spPr>
          <a:xfrm>
            <a:off x="2340000" y="544356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椭圆 7185"/>
          <p:cNvSpPr/>
          <p:nvPr/>
        </p:nvSpPr>
        <p:spPr>
          <a:xfrm>
            <a:off x="5435640" y="472284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椭圆 7186"/>
          <p:cNvSpPr/>
          <p:nvPr/>
        </p:nvSpPr>
        <p:spPr>
          <a:xfrm>
            <a:off x="2556000" y="23464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椭圆 7187"/>
          <p:cNvSpPr/>
          <p:nvPr/>
        </p:nvSpPr>
        <p:spPr>
          <a:xfrm>
            <a:off x="2987640" y="29224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椭圆 7188"/>
          <p:cNvSpPr/>
          <p:nvPr/>
        </p:nvSpPr>
        <p:spPr>
          <a:xfrm>
            <a:off x="5292720" y="26352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椭圆 7189"/>
          <p:cNvSpPr/>
          <p:nvPr/>
        </p:nvSpPr>
        <p:spPr>
          <a:xfrm>
            <a:off x="6804000" y="28512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椭圆 7190"/>
          <p:cNvSpPr/>
          <p:nvPr/>
        </p:nvSpPr>
        <p:spPr>
          <a:xfrm>
            <a:off x="6083280" y="256212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椭圆 7191"/>
          <p:cNvSpPr/>
          <p:nvPr/>
        </p:nvSpPr>
        <p:spPr>
          <a:xfrm>
            <a:off x="1187280" y="465120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椭圆 7192"/>
          <p:cNvSpPr/>
          <p:nvPr/>
        </p:nvSpPr>
        <p:spPr>
          <a:xfrm>
            <a:off x="2050920" y="457848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椭圆 7193"/>
          <p:cNvSpPr/>
          <p:nvPr/>
        </p:nvSpPr>
        <p:spPr>
          <a:xfrm>
            <a:off x="1116000" y="53704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椭圆 7194"/>
          <p:cNvSpPr/>
          <p:nvPr/>
        </p:nvSpPr>
        <p:spPr>
          <a:xfrm>
            <a:off x="2843280" y="486720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椭圆 7195"/>
          <p:cNvSpPr/>
          <p:nvPr/>
        </p:nvSpPr>
        <p:spPr>
          <a:xfrm>
            <a:off x="1692360" y="508320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椭圆 7196"/>
          <p:cNvSpPr/>
          <p:nvPr/>
        </p:nvSpPr>
        <p:spPr>
          <a:xfrm>
            <a:off x="6300720" y="47228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椭圆 7197"/>
          <p:cNvSpPr/>
          <p:nvPr/>
        </p:nvSpPr>
        <p:spPr>
          <a:xfrm>
            <a:off x="7236000" y="551484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椭圆 7198"/>
          <p:cNvSpPr/>
          <p:nvPr/>
        </p:nvSpPr>
        <p:spPr>
          <a:xfrm>
            <a:off x="6372360" y="558792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椭圆 7199"/>
          <p:cNvSpPr/>
          <p:nvPr/>
        </p:nvSpPr>
        <p:spPr>
          <a:xfrm>
            <a:off x="7093080" y="45784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椭圆 7200"/>
          <p:cNvSpPr/>
          <p:nvPr/>
        </p:nvSpPr>
        <p:spPr>
          <a:xfrm>
            <a:off x="5867280" y="522756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椭圆 7201"/>
          <p:cNvSpPr/>
          <p:nvPr/>
        </p:nvSpPr>
        <p:spPr>
          <a:xfrm>
            <a:off x="6732720" y="51544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矩形 8193"/>
          <p:cNvSpPr/>
          <p:nvPr/>
        </p:nvSpPr>
        <p:spPr>
          <a:xfrm>
            <a:off x="1692360" y="3817800"/>
            <a:ext cx="2519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 + 1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 + 5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矩形 8194"/>
          <p:cNvSpPr/>
          <p:nvPr/>
        </p:nvSpPr>
        <p:spPr>
          <a:xfrm>
            <a:off x="5734080" y="3909960"/>
            <a:ext cx="2306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7 - 1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7 - 6 =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图片 8195" descr="P-045"/>
          <p:cNvPicPr/>
          <p:nvPr/>
        </p:nvPicPr>
        <p:blipFill>
          <a:blip r:embed="rId1"/>
          <a:stretch/>
        </p:blipFill>
        <p:spPr>
          <a:xfrm>
            <a:off x="808200" y="1501920"/>
            <a:ext cx="3373200" cy="2193840"/>
          </a:xfrm>
          <a:prstGeom prst="rect">
            <a:avLst/>
          </a:prstGeom>
          <a:ln w="0">
            <a:noFill/>
          </a:ln>
        </p:spPr>
      </p:pic>
      <p:pic>
        <p:nvPicPr>
          <p:cNvPr id="1224" name="图片 8196" descr="P-045-2"/>
          <p:cNvPicPr/>
          <p:nvPr/>
        </p:nvPicPr>
        <p:blipFill>
          <a:blip r:embed="rId2"/>
          <a:stretch/>
        </p:blipFill>
        <p:spPr>
          <a:xfrm>
            <a:off x="4840200" y="1508040"/>
            <a:ext cx="3764160" cy="2187720"/>
          </a:xfrm>
          <a:prstGeom prst="rect">
            <a:avLst/>
          </a:prstGeom>
          <a:ln w="0">
            <a:noFill/>
          </a:ln>
        </p:spPr>
      </p:pic>
      <p:grpSp>
        <p:nvGrpSpPr>
          <p:cNvPr id="1225" name="组合 2"/>
          <p:cNvGrpSpPr/>
          <p:nvPr/>
        </p:nvGrpSpPr>
        <p:grpSpPr>
          <a:xfrm>
            <a:off x="-41400" y="141120"/>
            <a:ext cx="3245040" cy="527040"/>
            <a:chOff x="-41400" y="141120"/>
            <a:chExt cx="3245040" cy="527040"/>
          </a:xfrm>
        </p:grpSpPr>
        <p:pic>
          <p:nvPicPr>
            <p:cNvPr id="1226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09080" y="14112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组合 4"/>
            <p:cNvGrpSpPr/>
            <p:nvPr/>
          </p:nvGrpSpPr>
          <p:grpSpPr>
            <a:xfrm>
              <a:off x="-41400" y="236160"/>
              <a:ext cx="430200" cy="274680"/>
              <a:chOff x="-41400" y="236160"/>
              <a:chExt cx="430200" cy="274680"/>
            </a:xfrm>
          </p:grpSpPr>
          <p:sp>
            <p:nvSpPr>
              <p:cNvPr id="1228" name="椭圆 11"/>
              <p:cNvSpPr/>
              <p:nvPr/>
            </p:nvSpPr>
            <p:spPr>
              <a:xfrm rot="16200000">
                <a:off x="201960" y="4010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9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76760" y="3643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0" name="椭圆 29"/>
              <p:cNvSpPr/>
              <p:nvPr/>
            </p:nvSpPr>
            <p:spPr>
              <a:xfrm rot="16200000">
                <a:off x="201960" y="2739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760" y="2509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2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380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3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3520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-41400" y="2642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-41400" y="2361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6" name="TextBox 5"/>
          <p:cNvSpPr/>
          <p:nvPr/>
        </p:nvSpPr>
        <p:spPr>
          <a:xfrm>
            <a:off x="755640" y="117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内容占位符 9217" descr="图片234456"/>
          <p:cNvPicPr/>
          <p:nvPr/>
        </p:nvPicPr>
        <p:blipFill>
          <a:blip r:embed="rId1"/>
          <a:stretch/>
        </p:blipFill>
        <p:spPr>
          <a:xfrm>
            <a:off x="1835280" y="1628640"/>
            <a:ext cx="519120" cy="463680"/>
          </a:xfrm>
          <a:prstGeom prst="rect">
            <a:avLst/>
          </a:prstGeom>
          <a:ln w="0">
            <a:noFill/>
          </a:ln>
        </p:spPr>
      </p:pic>
      <p:pic>
        <p:nvPicPr>
          <p:cNvPr id="1238" name="内容占位符 9218" descr="图片234456"/>
          <p:cNvPicPr/>
          <p:nvPr/>
        </p:nvPicPr>
        <p:blipFill>
          <a:blip r:embed="rId2"/>
          <a:stretch/>
        </p:blipFill>
        <p:spPr>
          <a:xfrm>
            <a:off x="1114560" y="1595520"/>
            <a:ext cx="519120" cy="461880"/>
          </a:xfrm>
          <a:prstGeom prst="rect">
            <a:avLst/>
          </a:prstGeom>
          <a:ln w="0">
            <a:noFill/>
          </a:ln>
        </p:spPr>
      </p:pic>
      <p:pic>
        <p:nvPicPr>
          <p:cNvPr id="1239" name="内容占位符 9219" descr="图片234456"/>
          <p:cNvPicPr/>
          <p:nvPr/>
        </p:nvPicPr>
        <p:blipFill>
          <a:blip r:embed="rId3"/>
          <a:stretch/>
        </p:blipFill>
        <p:spPr>
          <a:xfrm>
            <a:off x="395280" y="1595520"/>
            <a:ext cx="519120" cy="461880"/>
          </a:xfrm>
          <a:prstGeom prst="rect">
            <a:avLst/>
          </a:prstGeom>
          <a:ln w="0">
            <a:noFill/>
          </a:ln>
        </p:spPr>
      </p:pic>
      <p:pic>
        <p:nvPicPr>
          <p:cNvPr id="1240" name="图片 9220" descr="P-045-5"/>
          <p:cNvPicPr/>
          <p:nvPr/>
        </p:nvPicPr>
        <p:blipFill>
          <a:blip r:embed="rId4"/>
          <a:stretch/>
        </p:blipFill>
        <p:spPr>
          <a:xfrm>
            <a:off x="3487680" y="161136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1241" name="图片 9221" descr="P-045-5"/>
          <p:cNvPicPr/>
          <p:nvPr/>
        </p:nvPicPr>
        <p:blipFill>
          <a:blip r:embed="rId5"/>
          <a:stretch/>
        </p:blipFill>
        <p:spPr>
          <a:xfrm>
            <a:off x="4210200" y="1611360"/>
            <a:ext cx="504720" cy="438120"/>
          </a:xfrm>
          <a:prstGeom prst="rect">
            <a:avLst/>
          </a:prstGeom>
          <a:ln w="0">
            <a:noFill/>
          </a:ln>
        </p:spPr>
      </p:pic>
      <p:sp>
        <p:nvSpPr>
          <p:cNvPr id="1242" name="矩形 9222"/>
          <p:cNvSpPr/>
          <p:nvPr/>
        </p:nvSpPr>
        <p:spPr>
          <a:xfrm>
            <a:off x="1182600" y="2852640"/>
            <a:ext cx="15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4 + 2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9223"/>
          <p:cNvSpPr/>
          <p:nvPr/>
        </p:nvSpPr>
        <p:spPr>
          <a:xfrm>
            <a:off x="2695680" y="2924280"/>
            <a:ext cx="44748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9224"/>
          <p:cNvSpPr/>
          <p:nvPr/>
        </p:nvSpPr>
        <p:spPr>
          <a:xfrm>
            <a:off x="1184400" y="3357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 +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矩形 9225"/>
          <p:cNvSpPr/>
          <p:nvPr/>
        </p:nvSpPr>
        <p:spPr>
          <a:xfrm>
            <a:off x="2695680" y="4005360"/>
            <a:ext cx="44748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矩形 9226"/>
          <p:cNvSpPr/>
          <p:nvPr/>
        </p:nvSpPr>
        <p:spPr>
          <a:xfrm>
            <a:off x="1187280" y="3933720"/>
            <a:ext cx="15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6 - 2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矩形 9227"/>
          <p:cNvSpPr/>
          <p:nvPr/>
        </p:nvSpPr>
        <p:spPr>
          <a:xfrm>
            <a:off x="2695680" y="3429000"/>
            <a:ext cx="44748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矩形 9228"/>
          <p:cNvSpPr/>
          <p:nvPr/>
        </p:nvSpPr>
        <p:spPr>
          <a:xfrm>
            <a:off x="1185840" y="450864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6 -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矩形 9229"/>
          <p:cNvSpPr/>
          <p:nvPr/>
        </p:nvSpPr>
        <p:spPr>
          <a:xfrm>
            <a:off x="2697120" y="4581360"/>
            <a:ext cx="44784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内容占位符 9230" descr="图片234456"/>
          <p:cNvPicPr/>
          <p:nvPr/>
        </p:nvPicPr>
        <p:blipFill>
          <a:blip r:embed="rId6"/>
          <a:stretch/>
        </p:blipFill>
        <p:spPr>
          <a:xfrm>
            <a:off x="2546280" y="1628640"/>
            <a:ext cx="519120" cy="463680"/>
          </a:xfrm>
          <a:prstGeom prst="rect">
            <a:avLst/>
          </a:prstGeom>
          <a:ln w="0">
            <a:noFill/>
          </a:ln>
        </p:spPr>
      </p:pic>
      <p:pic>
        <p:nvPicPr>
          <p:cNvPr id="1251" name="图片 9231" descr="P-045-6"/>
          <p:cNvPicPr/>
          <p:nvPr/>
        </p:nvPicPr>
        <p:blipFill>
          <a:blip r:embed="rId7"/>
          <a:stretch/>
        </p:blipFill>
        <p:spPr>
          <a:xfrm>
            <a:off x="5651640" y="1343160"/>
            <a:ext cx="434880" cy="1006200"/>
          </a:xfrm>
          <a:prstGeom prst="rect">
            <a:avLst/>
          </a:prstGeom>
          <a:ln w="0">
            <a:noFill/>
          </a:ln>
        </p:spPr>
      </p:pic>
      <p:pic>
        <p:nvPicPr>
          <p:cNvPr id="1252" name="图片 9232" descr="P-045-6"/>
          <p:cNvPicPr/>
          <p:nvPr/>
        </p:nvPicPr>
        <p:blipFill>
          <a:blip r:embed="rId8"/>
          <a:stretch/>
        </p:blipFill>
        <p:spPr>
          <a:xfrm>
            <a:off x="6251400" y="1343160"/>
            <a:ext cx="435240" cy="1006200"/>
          </a:xfrm>
          <a:prstGeom prst="rect">
            <a:avLst/>
          </a:prstGeom>
          <a:ln w="0">
            <a:noFill/>
          </a:ln>
        </p:spPr>
      </p:pic>
      <p:pic>
        <p:nvPicPr>
          <p:cNvPr id="1253" name="图片 9233" descr="P-045-6"/>
          <p:cNvPicPr/>
          <p:nvPr/>
        </p:nvPicPr>
        <p:blipFill>
          <a:blip r:embed="rId9"/>
          <a:stretch/>
        </p:blipFill>
        <p:spPr>
          <a:xfrm>
            <a:off x="5935680" y="1343160"/>
            <a:ext cx="434880" cy="1006200"/>
          </a:xfrm>
          <a:prstGeom prst="rect">
            <a:avLst/>
          </a:prstGeom>
          <a:ln w="0">
            <a:noFill/>
          </a:ln>
        </p:spPr>
      </p:pic>
      <p:pic>
        <p:nvPicPr>
          <p:cNvPr id="1254" name="图片 9234" descr="P-045-6"/>
          <p:cNvPicPr/>
          <p:nvPr/>
        </p:nvPicPr>
        <p:blipFill>
          <a:blip r:embed="rId10"/>
          <a:stretch/>
        </p:blipFill>
        <p:spPr>
          <a:xfrm>
            <a:off x="6607080" y="1343160"/>
            <a:ext cx="435240" cy="1006200"/>
          </a:xfrm>
          <a:prstGeom prst="rect">
            <a:avLst/>
          </a:prstGeom>
          <a:ln w="0">
            <a:noFill/>
          </a:ln>
        </p:spPr>
      </p:pic>
      <p:pic>
        <p:nvPicPr>
          <p:cNvPr id="1255" name="图片 9235" descr="P-045-6"/>
          <p:cNvPicPr/>
          <p:nvPr/>
        </p:nvPicPr>
        <p:blipFill>
          <a:blip r:embed="rId11"/>
          <a:stretch/>
        </p:blipFill>
        <p:spPr>
          <a:xfrm>
            <a:off x="6961320" y="1343160"/>
            <a:ext cx="434880" cy="1006200"/>
          </a:xfrm>
          <a:prstGeom prst="rect">
            <a:avLst/>
          </a:prstGeom>
          <a:ln w="0">
            <a:noFill/>
          </a:ln>
        </p:spPr>
      </p:pic>
      <p:pic>
        <p:nvPicPr>
          <p:cNvPr id="1256" name="图片 9236" descr="P-045-6"/>
          <p:cNvPicPr/>
          <p:nvPr/>
        </p:nvPicPr>
        <p:blipFill>
          <a:blip r:embed="rId12"/>
          <a:stretch/>
        </p:blipFill>
        <p:spPr>
          <a:xfrm>
            <a:off x="7745400" y="1343160"/>
            <a:ext cx="434880" cy="1006200"/>
          </a:xfrm>
          <a:prstGeom prst="rect">
            <a:avLst/>
          </a:prstGeom>
          <a:ln w="0">
            <a:noFill/>
          </a:ln>
        </p:spPr>
      </p:pic>
      <p:pic>
        <p:nvPicPr>
          <p:cNvPr id="1257" name="图片 9237" descr="P-045-6"/>
          <p:cNvPicPr/>
          <p:nvPr/>
        </p:nvPicPr>
        <p:blipFill>
          <a:blip r:embed="rId13"/>
          <a:stretch/>
        </p:blipFill>
        <p:spPr>
          <a:xfrm>
            <a:off x="8028000" y="1343160"/>
            <a:ext cx="436680" cy="1006200"/>
          </a:xfrm>
          <a:prstGeom prst="rect">
            <a:avLst/>
          </a:prstGeom>
          <a:ln w="0">
            <a:noFill/>
          </a:ln>
        </p:spPr>
      </p:pic>
      <p:sp>
        <p:nvSpPr>
          <p:cNvPr id="1258" name="矩形 9238"/>
          <p:cNvSpPr/>
          <p:nvPr/>
        </p:nvSpPr>
        <p:spPr>
          <a:xfrm>
            <a:off x="6222960" y="2854440"/>
            <a:ext cx="15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5 + 2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矩形 9239"/>
          <p:cNvSpPr/>
          <p:nvPr/>
        </p:nvSpPr>
        <p:spPr>
          <a:xfrm>
            <a:off x="6226200" y="3357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 + 5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矩形 9240"/>
          <p:cNvSpPr/>
          <p:nvPr/>
        </p:nvSpPr>
        <p:spPr>
          <a:xfrm>
            <a:off x="6227640" y="3933720"/>
            <a:ext cx="15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7 - 2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矩形 9241"/>
          <p:cNvSpPr/>
          <p:nvPr/>
        </p:nvSpPr>
        <p:spPr>
          <a:xfrm>
            <a:off x="6226200" y="451008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7 - 5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9242"/>
          <p:cNvSpPr/>
          <p:nvPr/>
        </p:nvSpPr>
        <p:spPr>
          <a:xfrm>
            <a:off x="2687760" y="28544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9243"/>
          <p:cNvSpPr/>
          <p:nvPr/>
        </p:nvSpPr>
        <p:spPr>
          <a:xfrm>
            <a:off x="2687760" y="3357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9244"/>
          <p:cNvSpPr/>
          <p:nvPr/>
        </p:nvSpPr>
        <p:spPr>
          <a:xfrm>
            <a:off x="2687760" y="3933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9245"/>
          <p:cNvSpPr/>
          <p:nvPr/>
        </p:nvSpPr>
        <p:spPr>
          <a:xfrm>
            <a:off x="2687760" y="45086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9246"/>
          <p:cNvSpPr/>
          <p:nvPr/>
        </p:nvSpPr>
        <p:spPr>
          <a:xfrm>
            <a:off x="7737480" y="2924280"/>
            <a:ext cx="44784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矩形 9247"/>
          <p:cNvSpPr/>
          <p:nvPr/>
        </p:nvSpPr>
        <p:spPr>
          <a:xfrm>
            <a:off x="7737480" y="4005360"/>
            <a:ext cx="44784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矩形 9248"/>
          <p:cNvSpPr/>
          <p:nvPr/>
        </p:nvSpPr>
        <p:spPr>
          <a:xfrm>
            <a:off x="7737480" y="3429000"/>
            <a:ext cx="44784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矩形 9249"/>
          <p:cNvSpPr/>
          <p:nvPr/>
        </p:nvSpPr>
        <p:spPr>
          <a:xfrm>
            <a:off x="7737480" y="4581360"/>
            <a:ext cx="44784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9250"/>
          <p:cNvSpPr/>
          <p:nvPr/>
        </p:nvSpPr>
        <p:spPr>
          <a:xfrm>
            <a:off x="7728120" y="28544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9251"/>
          <p:cNvSpPr/>
          <p:nvPr/>
        </p:nvSpPr>
        <p:spPr>
          <a:xfrm>
            <a:off x="7728120" y="3357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文本框 9252"/>
          <p:cNvSpPr/>
          <p:nvPr/>
        </p:nvSpPr>
        <p:spPr>
          <a:xfrm>
            <a:off x="7728120" y="3933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文本框 9253"/>
          <p:cNvSpPr/>
          <p:nvPr/>
        </p:nvSpPr>
        <p:spPr>
          <a:xfrm>
            <a:off x="7728120" y="45086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组合 2"/>
          <p:cNvGrpSpPr/>
          <p:nvPr/>
        </p:nvGrpSpPr>
        <p:grpSpPr>
          <a:xfrm>
            <a:off x="-41400" y="141120"/>
            <a:ext cx="3368880" cy="527040"/>
            <a:chOff x="-41400" y="141120"/>
            <a:chExt cx="3368880" cy="527040"/>
          </a:xfrm>
        </p:grpSpPr>
        <p:pic>
          <p:nvPicPr>
            <p:cNvPr id="1275" name="圆角矩形 5" descr=""/>
            <p:cNvPicPr/>
            <p:nvPr/>
          </p:nvPicPr>
          <p:blipFill>
            <a:blip r:embed="rId14"/>
            <a:stretch/>
          </p:blipFill>
          <p:spPr>
            <a:xfrm>
              <a:off x="115920" y="141120"/>
              <a:ext cx="3211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6" name="组合 4"/>
            <p:cNvGrpSpPr/>
            <p:nvPr/>
          </p:nvGrpSpPr>
          <p:grpSpPr>
            <a:xfrm>
              <a:off x="-41400" y="236160"/>
              <a:ext cx="446760" cy="274680"/>
              <a:chOff x="-41400" y="236160"/>
              <a:chExt cx="446760" cy="274680"/>
            </a:xfrm>
          </p:grpSpPr>
          <p:sp>
            <p:nvSpPr>
              <p:cNvPr id="1277" name="椭圆 11"/>
              <p:cNvSpPr/>
              <p:nvPr/>
            </p:nvSpPr>
            <p:spPr>
              <a:xfrm rot="16200000">
                <a:off x="205200" y="399960"/>
                <a:ext cx="100080" cy="12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8" name="椭圆 13" descr=""/>
              <p:cNvPicPr/>
              <p:nvPr/>
            </p:nvPicPr>
            <p:blipFill>
              <a:blip r:embed="rId15"/>
              <a:stretch/>
            </p:blipFill>
            <p:spPr>
              <a:xfrm>
                <a:off x="191160" y="360360"/>
                <a:ext cx="214200" cy="11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椭圆 29"/>
              <p:cNvSpPr/>
              <p:nvPr/>
            </p:nvSpPr>
            <p:spPr>
              <a:xfrm rot="16200000">
                <a:off x="205200" y="272160"/>
                <a:ext cx="100080" cy="12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0" name="椭圆 30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1160" y="250200"/>
                <a:ext cx="214200" cy="11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31" descr=""/>
              <p:cNvPicPr/>
              <p:nvPr/>
            </p:nvPicPr>
            <p:blipFill>
              <a:blip r:embed="rId17"/>
              <a:stretch/>
            </p:blipFill>
            <p:spPr>
              <a:xfrm>
                <a:off x="-41400" y="376200"/>
                <a:ext cx="37260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32" descr=""/>
              <p:cNvPicPr/>
              <p:nvPr/>
            </p:nvPicPr>
            <p:blipFill>
              <a:blip r:embed="rId18"/>
              <a:stretch/>
            </p:blipFill>
            <p:spPr>
              <a:xfrm>
                <a:off x="-41400" y="348480"/>
                <a:ext cx="37260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-41400" y="263520"/>
                <a:ext cx="372600" cy="9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-41400" y="236160"/>
                <a:ext cx="372600" cy="97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5" name="TextBox 5"/>
          <p:cNvSpPr/>
          <p:nvPr/>
        </p:nvSpPr>
        <p:spPr>
          <a:xfrm>
            <a:off x="468360" y="11736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摆一摆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等腰三角形 10241"/>
          <p:cNvSpPr/>
          <p:nvPr/>
        </p:nvSpPr>
        <p:spPr>
          <a:xfrm>
            <a:off x="5005440" y="2084400"/>
            <a:ext cx="503280" cy="4348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等腰三角形 10242"/>
          <p:cNvSpPr/>
          <p:nvPr/>
        </p:nvSpPr>
        <p:spPr>
          <a:xfrm>
            <a:off x="5653080" y="2084400"/>
            <a:ext cx="503280" cy="4348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等腰三角形 10243"/>
          <p:cNvSpPr/>
          <p:nvPr/>
        </p:nvSpPr>
        <p:spPr>
          <a:xfrm>
            <a:off x="6302520" y="2084400"/>
            <a:ext cx="502920" cy="43488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等腰三角形 10244"/>
          <p:cNvSpPr/>
          <p:nvPr/>
        </p:nvSpPr>
        <p:spPr>
          <a:xfrm>
            <a:off x="2341440" y="2084400"/>
            <a:ext cx="503280" cy="43488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等腰三角形 10245"/>
          <p:cNvSpPr/>
          <p:nvPr/>
        </p:nvSpPr>
        <p:spPr>
          <a:xfrm>
            <a:off x="2989440" y="2084400"/>
            <a:ext cx="502920" cy="43488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等腰三角形 10246"/>
          <p:cNvSpPr/>
          <p:nvPr/>
        </p:nvSpPr>
        <p:spPr>
          <a:xfrm>
            <a:off x="3638520" y="2084400"/>
            <a:ext cx="503280" cy="43488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矩形 10247"/>
          <p:cNvSpPr/>
          <p:nvPr/>
        </p:nvSpPr>
        <p:spPr>
          <a:xfrm>
            <a:off x="3492360" y="274464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3+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矩形 10248"/>
          <p:cNvSpPr/>
          <p:nvPr/>
        </p:nvSpPr>
        <p:spPr>
          <a:xfrm>
            <a:off x="5203800" y="2811600"/>
            <a:ext cx="44784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10250"/>
          <p:cNvSpPr/>
          <p:nvPr/>
        </p:nvSpPr>
        <p:spPr>
          <a:xfrm>
            <a:off x="3492360" y="3608280"/>
            <a:ext cx="237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6-3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10251"/>
          <p:cNvSpPr/>
          <p:nvPr/>
        </p:nvSpPr>
        <p:spPr>
          <a:xfrm>
            <a:off x="5148360" y="3646440"/>
            <a:ext cx="44748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10252"/>
          <p:cNvSpPr/>
          <p:nvPr/>
        </p:nvSpPr>
        <p:spPr>
          <a:xfrm>
            <a:off x="1952640" y="358128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10253"/>
          <p:cNvSpPr/>
          <p:nvPr/>
        </p:nvSpPr>
        <p:spPr>
          <a:xfrm>
            <a:off x="5208480" y="27385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10255"/>
          <p:cNvSpPr/>
          <p:nvPr/>
        </p:nvSpPr>
        <p:spPr>
          <a:xfrm>
            <a:off x="5137200" y="357516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矩形 11265"/>
          <p:cNvSpPr/>
          <p:nvPr/>
        </p:nvSpPr>
        <p:spPr>
          <a:xfrm>
            <a:off x="3708360" y="1773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+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11266"/>
          <p:cNvSpPr/>
          <p:nvPr/>
        </p:nvSpPr>
        <p:spPr>
          <a:xfrm>
            <a:off x="5580000" y="1854360"/>
            <a:ext cx="493920" cy="49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11267"/>
          <p:cNvSpPr/>
          <p:nvPr/>
        </p:nvSpPr>
        <p:spPr>
          <a:xfrm>
            <a:off x="900000" y="1773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 -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矩形 11268"/>
          <p:cNvSpPr/>
          <p:nvPr/>
        </p:nvSpPr>
        <p:spPr>
          <a:xfrm>
            <a:off x="2698920" y="1854360"/>
            <a:ext cx="50472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矩形 11269"/>
          <p:cNvSpPr/>
          <p:nvPr/>
        </p:nvSpPr>
        <p:spPr>
          <a:xfrm>
            <a:off x="6515280" y="177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 +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矩形 11270"/>
          <p:cNvSpPr/>
          <p:nvPr/>
        </p:nvSpPr>
        <p:spPr>
          <a:xfrm>
            <a:off x="8315280" y="1854360"/>
            <a:ext cx="493920" cy="49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矩形 11271"/>
          <p:cNvSpPr/>
          <p:nvPr/>
        </p:nvSpPr>
        <p:spPr>
          <a:xfrm>
            <a:off x="90000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 +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矩形 11272"/>
          <p:cNvSpPr/>
          <p:nvPr/>
        </p:nvSpPr>
        <p:spPr>
          <a:xfrm>
            <a:off x="2698920" y="2933640"/>
            <a:ext cx="50472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矩形 11273"/>
          <p:cNvSpPr/>
          <p:nvPr/>
        </p:nvSpPr>
        <p:spPr>
          <a:xfrm>
            <a:off x="370836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+ 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矩形 11274"/>
          <p:cNvSpPr/>
          <p:nvPr/>
        </p:nvSpPr>
        <p:spPr>
          <a:xfrm>
            <a:off x="5580000" y="2933640"/>
            <a:ext cx="4939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矩形 11275"/>
          <p:cNvSpPr/>
          <p:nvPr/>
        </p:nvSpPr>
        <p:spPr>
          <a:xfrm>
            <a:off x="6515280" y="2852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 -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矩形 11276"/>
          <p:cNvSpPr/>
          <p:nvPr/>
        </p:nvSpPr>
        <p:spPr>
          <a:xfrm>
            <a:off x="8315280" y="2933640"/>
            <a:ext cx="4939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11277"/>
          <p:cNvSpPr/>
          <p:nvPr/>
        </p:nvSpPr>
        <p:spPr>
          <a:xfrm>
            <a:off x="900000" y="38624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6 -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11278"/>
          <p:cNvSpPr/>
          <p:nvPr/>
        </p:nvSpPr>
        <p:spPr>
          <a:xfrm>
            <a:off x="2698920" y="3943440"/>
            <a:ext cx="504720" cy="50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矩形 11279"/>
          <p:cNvSpPr/>
          <p:nvPr/>
        </p:nvSpPr>
        <p:spPr>
          <a:xfrm>
            <a:off x="3708360" y="38624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 - 1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矩形 11280"/>
          <p:cNvSpPr/>
          <p:nvPr/>
        </p:nvSpPr>
        <p:spPr>
          <a:xfrm>
            <a:off x="5580000" y="3943440"/>
            <a:ext cx="4939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11281"/>
          <p:cNvSpPr/>
          <p:nvPr/>
        </p:nvSpPr>
        <p:spPr>
          <a:xfrm>
            <a:off x="6515280" y="38624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+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矩形 11282"/>
          <p:cNvSpPr/>
          <p:nvPr/>
        </p:nvSpPr>
        <p:spPr>
          <a:xfrm>
            <a:off x="8315280" y="3943440"/>
            <a:ext cx="4939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文本框 11283"/>
          <p:cNvSpPr/>
          <p:nvPr/>
        </p:nvSpPr>
        <p:spPr>
          <a:xfrm>
            <a:off x="2689200" y="18446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文本框 11284"/>
          <p:cNvSpPr/>
          <p:nvPr/>
        </p:nvSpPr>
        <p:spPr>
          <a:xfrm>
            <a:off x="5640480" y="18446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11285"/>
          <p:cNvSpPr/>
          <p:nvPr/>
        </p:nvSpPr>
        <p:spPr>
          <a:xfrm>
            <a:off x="8305920" y="184464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11286"/>
          <p:cNvSpPr/>
          <p:nvPr/>
        </p:nvSpPr>
        <p:spPr>
          <a:xfrm>
            <a:off x="2760480" y="292428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11287"/>
          <p:cNvSpPr/>
          <p:nvPr/>
        </p:nvSpPr>
        <p:spPr>
          <a:xfrm>
            <a:off x="5640480" y="292428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文本框 11288"/>
          <p:cNvSpPr/>
          <p:nvPr/>
        </p:nvSpPr>
        <p:spPr>
          <a:xfrm>
            <a:off x="8305920" y="292428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11289"/>
          <p:cNvSpPr/>
          <p:nvPr/>
        </p:nvSpPr>
        <p:spPr>
          <a:xfrm>
            <a:off x="2760480" y="3933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11290"/>
          <p:cNvSpPr/>
          <p:nvPr/>
        </p:nvSpPr>
        <p:spPr>
          <a:xfrm>
            <a:off x="5640480" y="3933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11291"/>
          <p:cNvSpPr/>
          <p:nvPr/>
        </p:nvSpPr>
        <p:spPr>
          <a:xfrm>
            <a:off x="8377200" y="3933720"/>
            <a:ext cx="39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组合 2"/>
          <p:cNvGrpSpPr/>
          <p:nvPr/>
        </p:nvGrpSpPr>
        <p:grpSpPr>
          <a:xfrm>
            <a:off x="-41400" y="141120"/>
            <a:ext cx="3245040" cy="527040"/>
            <a:chOff x="-41400" y="141120"/>
            <a:chExt cx="3245040" cy="527040"/>
          </a:xfrm>
        </p:grpSpPr>
        <p:pic>
          <p:nvPicPr>
            <p:cNvPr id="132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09080" y="141120"/>
              <a:ext cx="30945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8" name="组合 4"/>
            <p:cNvGrpSpPr/>
            <p:nvPr/>
          </p:nvGrpSpPr>
          <p:grpSpPr>
            <a:xfrm>
              <a:off x="-41400" y="236160"/>
              <a:ext cx="430200" cy="274680"/>
              <a:chOff x="-41400" y="236160"/>
              <a:chExt cx="430200" cy="274680"/>
            </a:xfrm>
          </p:grpSpPr>
          <p:sp>
            <p:nvSpPr>
              <p:cNvPr id="1329" name="椭圆 11"/>
              <p:cNvSpPr/>
              <p:nvPr/>
            </p:nvSpPr>
            <p:spPr>
              <a:xfrm rot="16200000">
                <a:off x="201960" y="4010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76760" y="3643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1" name="椭圆 29"/>
              <p:cNvSpPr/>
              <p:nvPr/>
            </p:nvSpPr>
            <p:spPr>
              <a:xfrm rot="16200000">
                <a:off x="201960" y="2739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6760" y="250920"/>
                <a:ext cx="21204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41400" y="38052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41400" y="35208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41400" y="26424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41400" y="236160"/>
                <a:ext cx="35676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7" name="Rectangle 64"/>
          <p:cNvSpPr/>
          <p:nvPr/>
        </p:nvSpPr>
        <p:spPr>
          <a:xfrm>
            <a:off x="682560" y="117360"/>
            <a:ext cx="1973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7:22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